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gif" ContentType="image/gif"/>
  <Override PartName="/ppt/media/image5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type.wav" ContentType="audio/x-wav"/>
  <Override PartName="/ppt/media/image15.jpeg" ContentType="image/jpeg"/>
  <Override PartName="/ppt/media/image19.jpeg" ContentType="image/jpeg"/>
  <Override PartName="/ppt/media/image10.png" ContentType="image/png"/>
  <Override PartName="/ppt/media/image17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CEB-2A8A-4CF9-B4EC-7F663A8B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041B-50ED-4592-A39C-4495FFD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C12-4E35-4147-9999-255D9ADD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137-66B2-432C-BDE1-B9D7F44E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2EE-2D9A-4979-96C2-FB4718EC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901-C8E0-4640-BE20-754A878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64A-1612-4957-BEA4-ED8ECB8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DF2-A326-40BD-8262-EF3E6989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034-F116-4507-9ADA-59C90AF0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C47-F59B-4B6A-B09B-5DCE812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0DB-3EFC-412E-8D11-BA716A99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B99-9132-4D3C-985A-DBFD8B3B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62C-C946-4D26-985C-9BFB76790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898044453&amp;tn=baiduimagedetail&amp;word=&#21319;,&#26007;&amp;in=14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http://image.baidu.com/i?ct=503316480&amp;z=532448853&amp;tn=baiduimagedetail&amp;word=&#31216;&amp;in=2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34000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课                          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“秦王扫六合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442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4572000" y="228600"/>
            <a:ext cx="4571640" cy="6629400"/>
            <a:chOff x="4572000" y="228600"/>
            <a:chExt cx="4571640" cy="662940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571640" cy="662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812480" y="914400"/>
              <a:ext cx="457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齐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9960" y="3124080"/>
              <a:ext cx="401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96920" y="5257800"/>
              <a:ext cx="88200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韩赵    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5520" y="3352680"/>
              <a:ext cx="4179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7200" y="609480"/>
            <a:ext cx="3809880" cy="109944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统一货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645000"/>
            <a:ext cx="373356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  </a:t>
            </a: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中宋"/>
              </a:rPr>
              <a:t>圆形方孔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1871640" cy="17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209600" y="1197000"/>
            <a:ext cx="6466680" cy="4453920"/>
            <a:chOff x="1209600" y="1197000"/>
            <a:chExt cx="6466680" cy="4453920"/>
          </a:xfrm>
        </p:grpSpPr>
        <p:sp>
          <p:nvSpPr>
            <p:cNvPr id="152" name=""/>
            <p:cNvSpPr/>
            <p:nvPr/>
          </p:nvSpPr>
          <p:spPr>
            <a:xfrm>
              <a:off x="3346200" y="119700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度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2520" y="454968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衡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46200" y="2720880"/>
              <a:ext cx="6379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3880" y="1577880"/>
              <a:ext cx="228600" cy="38095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99360 h 3809520"/>
                <a:gd name="textAreaBottom" fmla="*/ 3710160 h 380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9600" y="287316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统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132160" y="1425240"/>
              <a:ext cx="2467800" cy="796680"/>
              <a:chOff x="5132160" y="1425240"/>
              <a:chExt cx="2467800" cy="796680"/>
            </a:xfrm>
          </p:grpSpPr>
          <p:graphicFrame>
            <p:nvGraphicFramePr>
              <p:cNvPr id="158" name=""/>
              <p:cNvGraphicFramePr/>
              <p:nvPr/>
            </p:nvGraphicFramePr>
            <p:xfrm>
              <a:off x="5132160" y="1425240"/>
              <a:ext cx="1828800" cy="3697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5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132160" y="1425240"/>
                        <a:ext cx="1828800" cy="36972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60" name=""/>
              <p:cNvSpPr/>
              <p:nvPr/>
            </p:nvSpPr>
            <p:spPr>
              <a:xfrm>
                <a:off x="5499000" y="1701360"/>
                <a:ext cx="210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丈量物品长短的尺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055840" y="2873160"/>
              <a:ext cx="2620440" cy="1024920"/>
              <a:chOff x="5055840" y="2873160"/>
              <a:chExt cx="2620440" cy="1024920"/>
            </a:xfrm>
          </p:grpSpPr>
          <p:sp>
            <p:nvSpPr>
              <p:cNvPr id="162" name=""/>
              <p:cNvSpPr/>
              <p:nvPr/>
            </p:nvSpPr>
            <p:spPr>
              <a:xfrm>
                <a:off x="5575320" y="3377520"/>
                <a:ext cx="2100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测量物品容积的升斗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055840" y="2873160"/>
                <a:ext cx="2057400" cy="612360"/>
                <a:chOff x="5055840" y="2873160"/>
                <a:chExt cx="2057400" cy="612360"/>
              </a:xfrm>
            </p:grpSpPr>
            <p:pic>
              <p:nvPicPr>
                <p:cNvPr id="164" name="" descr=""/>
                <p:cNvPicPr/>
                <p:nvPr/>
              </p:nvPicPr>
              <p:blipFill>
                <a:blip r:embed="rId4">
                  <a:lum contrast="24000"/>
                </a:blip>
                <a:srcRect l="8963" t="0" r="4007" b="14388"/>
                <a:stretch/>
              </p:blipFill>
              <p:spPr>
                <a:xfrm>
                  <a:off x="6048000" y="2873160"/>
                  <a:ext cx="1065240" cy="572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>
                  <a:hlinkClick r:id="rId5"/>
                </p:cNvPr>
                <p:cNvPicPr/>
                <p:nvPr/>
              </p:nvPicPr>
              <p:blipFill>
                <a:blip r:embed="rId6">
                  <a:lum contrast="30000"/>
                </a:blip>
                <a:stretch/>
              </p:blipFill>
              <p:spPr>
                <a:xfrm>
                  <a:off x="5055840" y="2873160"/>
                  <a:ext cx="965160" cy="612360"/>
                </a:xfrm>
                <a:prstGeom prst="rect">
                  <a:avLst/>
                </a:prstGeom>
                <a:ln w="9360">
                  <a:solidFill>
                    <a:srgbClr val="003300"/>
                  </a:solidFill>
                  <a:miter/>
                </a:ln>
              </p:spPr>
            </p:pic>
          </p:grpSp>
        </p:grpSp>
        <p:grpSp>
          <p:nvGrpSpPr>
            <p:cNvPr id="166" name=""/>
            <p:cNvGrpSpPr/>
            <p:nvPr/>
          </p:nvGrpSpPr>
          <p:grpSpPr>
            <a:xfrm>
              <a:off x="5055840" y="4701960"/>
              <a:ext cx="2336040" cy="948960"/>
              <a:chOff x="5055840" y="4701960"/>
              <a:chExt cx="2336040" cy="948960"/>
            </a:xfrm>
          </p:grpSpPr>
          <p:sp>
            <p:nvSpPr>
              <p:cNvPr id="167" name=""/>
              <p:cNvSpPr/>
              <p:nvPr/>
            </p:nvSpPr>
            <p:spPr>
              <a:xfrm>
                <a:off x="5504400" y="5130360"/>
                <a:ext cx="188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称量物品轻重的秤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5055840" y="4701960"/>
                <a:ext cx="1981440" cy="533160"/>
                <a:chOff x="5055840" y="4701960"/>
                <a:chExt cx="1981440" cy="533160"/>
              </a:xfrm>
            </p:grpSpPr>
            <p:pic>
              <p:nvPicPr>
                <p:cNvPr id="169" name="" descr=""/>
                <p:cNvPicPr/>
                <p:nvPr/>
              </p:nvPicPr>
              <p:blipFill>
                <a:blip r:embed="rId7">
                  <a:lum contrast="36000"/>
                </a:blip>
                <a:srcRect l="8116" t="8907" r="2711" b="10956"/>
                <a:stretch/>
              </p:blipFill>
              <p:spPr>
                <a:xfrm>
                  <a:off x="5055840" y="4701960"/>
                  <a:ext cx="1067040" cy="5331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70" name="" descr="">
                  <a:hlinkClick r:id="rId8"/>
                </p:cNvPr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122880" y="4731840"/>
                  <a:ext cx="914400" cy="5029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898560" y="1268280"/>
            <a:ext cx="6337440" cy="40449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24360" y="4149720"/>
            <a:ext cx="1295640" cy="703440"/>
          </a:xfrm>
          <a:prstGeom prst="rect">
            <a:avLst/>
          </a:prstGeom>
          <a:solidFill>
            <a:srgbClr val="ffff00"/>
          </a:solidFill>
          <a:ln w="63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华文中宋"/>
              </a:rPr>
              <a:t>小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620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文化上：统一文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2057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为巩固统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采取一系列措施，试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经济、文化、思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方面来论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31240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经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货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全国范围内使用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圆形方孔铜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度量衡。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2670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文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小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全国规范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推广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隶书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思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思想控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焚书坑儒</a:t>
            </a:r>
            <a:r>
              <a:rPr b="1" lang="zh-CN" sz="2800" spc="-1" strike="noStrike">
                <a:solidFill>
                  <a:srgbClr val="76041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685800"/>
            <a:ext cx="4343400" cy="76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巩固统一的措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71800" y="1219320"/>
            <a:ext cx="4724280" cy="674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5877000"/>
            <a:ext cx="864072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 Black"/>
                <a:ea typeface="隶书"/>
              </a:rPr>
              <a:t>秦统一货币、度量衡和文字有什么重大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83664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秦始皇进行了货币、度量衡、文字的统一，你认为这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421000"/>
            <a:ext cx="820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统一货币、度量衡、文字，促进了当时秦经济文化的交流和发展、巩固了国家的统一、推动了历史地向前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4437000"/>
            <a:ext cx="8534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rcRect l="0" t="0" r="0" b="10322"/>
          <a:stretch/>
        </p:blipFill>
        <p:spPr>
          <a:xfrm>
            <a:off x="4822920" y="2952720"/>
            <a:ext cx="3997080" cy="3038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108000" y="26028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4.</a:t>
            </a:r>
            <a:r>
              <a:rPr b="0" lang="zh-CN" sz="5000" spc="-1" strike="noStrike">
                <a:solidFill>
                  <a:srgbClr val="ff0000"/>
                </a:solidFill>
                <a:latin typeface="隶书"/>
                <a:ea typeface="隶书"/>
              </a:rPr>
              <a:t>思想上：焚书坑儒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08000" y="2708280"/>
            <a:ext cx="4248000" cy="3600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03280" y="1628640"/>
            <a:ext cx="1081080" cy="720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隶书"/>
              </a:rPr>
              <a:t>焚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1557360"/>
            <a:ext cx="1081080" cy="72072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  <a:ea typeface="隶书"/>
              </a:rPr>
              <a:t>坑儒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7650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现代著名史学家郭沫若说：“书籍被焚烧，其实还在其次，春秋末年以来，蓬蓬勃勃发展起来的自由思索的精神，事实上因此而遭受了一次致命的打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9160" y="189000"/>
            <a:ext cx="8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材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50560" y="328464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 Black"/>
                <a:ea typeface="隶书"/>
              </a:rPr>
              <a:t>你怎样看焚书坑儒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280" y="3860640"/>
            <a:ext cx="1521000" cy="2403720"/>
          </a:xfrm>
          <a:prstGeom prst="rect">
            <a:avLst/>
          </a:prstGeom>
          <a:solidFill>
            <a:srgbClr val="000066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各抒己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42926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评价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一方面是加强思想统治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巩固了统一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隶书"/>
              </a:rPr>
              <a:t>;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另一方面是禁锢了思想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摧残了文化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2819520" y="584280"/>
            <a:ext cx="6248160" cy="1396800"/>
          </a:xfrm>
          <a:custGeom>
            <a:avLst/>
            <a:gdLst/>
            <a:ahLst/>
            <a:rect l="l" t="t" r="r" b="b"/>
            <a:pathLst>
              <a:path w="3936" h="880">
                <a:moveTo>
                  <a:pt x="0" y="880"/>
                </a:moveTo>
                <a:cubicBezTo>
                  <a:pt x="4" y="860"/>
                  <a:pt x="8" y="840"/>
                  <a:pt x="48" y="832"/>
                </a:cubicBezTo>
                <a:cubicBezTo>
                  <a:pt x="88" y="824"/>
                  <a:pt x="184" y="832"/>
                  <a:pt x="240" y="832"/>
                </a:cubicBezTo>
                <a:cubicBezTo>
                  <a:pt x="296" y="832"/>
                  <a:pt x="336" y="832"/>
                  <a:pt x="384" y="832"/>
                </a:cubicBezTo>
                <a:cubicBezTo>
                  <a:pt x="432" y="832"/>
                  <a:pt x="480" y="840"/>
                  <a:pt x="528" y="832"/>
                </a:cubicBezTo>
                <a:cubicBezTo>
                  <a:pt x="576" y="824"/>
                  <a:pt x="632" y="808"/>
                  <a:pt x="672" y="784"/>
                </a:cubicBezTo>
                <a:cubicBezTo>
                  <a:pt x="712" y="760"/>
                  <a:pt x="744" y="688"/>
                  <a:pt x="768" y="688"/>
                </a:cubicBezTo>
                <a:cubicBezTo>
                  <a:pt x="792" y="688"/>
                  <a:pt x="792" y="760"/>
                  <a:pt x="816" y="784"/>
                </a:cubicBezTo>
                <a:cubicBezTo>
                  <a:pt x="840" y="808"/>
                  <a:pt x="872" y="824"/>
                  <a:pt x="912" y="832"/>
                </a:cubicBezTo>
                <a:cubicBezTo>
                  <a:pt x="952" y="840"/>
                  <a:pt x="1008" y="832"/>
                  <a:pt x="1056" y="832"/>
                </a:cubicBezTo>
                <a:cubicBezTo>
                  <a:pt x="1104" y="832"/>
                  <a:pt x="1144" y="832"/>
                  <a:pt x="1200" y="832"/>
                </a:cubicBezTo>
                <a:cubicBezTo>
                  <a:pt x="1256" y="832"/>
                  <a:pt x="1352" y="840"/>
                  <a:pt x="1392" y="832"/>
                </a:cubicBezTo>
                <a:cubicBezTo>
                  <a:pt x="1432" y="824"/>
                  <a:pt x="1408" y="792"/>
                  <a:pt x="1440" y="784"/>
                </a:cubicBezTo>
                <a:cubicBezTo>
                  <a:pt x="1472" y="776"/>
                  <a:pt x="1536" y="800"/>
                  <a:pt x="1584" y="784"/>
                </a:cubicBezTo>
                <a:cubicBezTo>
                  <a:pt x="1632" y="768"/>
                  <a:pt x="1680" y="720"/>
                  <a:pt x="1728" y="688"/>
                </a:cubicBezTo>
                <a:cubicBezTo>
                  <a:pt x="1776" y="656"/>
                  <a:pt x="1816" y="616"/>
                  <a:pt x="1872" y="592"/>
                </a:cubicBezTo>
                <a:cubicBezTo>
                  <a:pt x="1928" y="568"/>
                  <a:pt x="2000" y="576"/>
                  <a:pt x="2064" y="544"/>
                </a:cubicBezTo>
                <a:cubicBezTo>
                  <a:pt x="2128" y="512"/>
                  <a:pt x="2208" y="432"/>
                  <a:pt x="2256" y="400"/>
                </a:cubicBezTo>
                <a:cubicBezTo>
                  <a:pt x="2304" y="368"/>
                  <a:pt x="2328" y="384"/>
                  <a:pt x="2352" y="352"/>
                </a:cubicBezTo>
                <a:cubicBezTo>
                  <a:pt x="2376" y="320"/>
                  <a:pt x="2360" y="232"/>
                  <a:pt x="2400" y="208"/>
                </a:cubicBezTo>
                <a:cubicBezTo>
                  <a:pt x="2440" y="184"/>
                  <a:pt x="2552" y="216"/>
                  <a:pt x="2592" y="208"/>
                </a:cubicBezTo>
                <a:cubicBezTo>
                  <a:pt x="2632" y="200"/>
                  <a:pt x="2608" y="168"/>
                  <a:pt x="2640" y="160"/>
                </a:cubicBezTo>
                <a:cubicBezTo>
                  <a:pt x="2672" y="152"/>
                  <a:pt x="2752" y="152"/>
                  <a:pt x="2784" y="160"/>
                </a:cubicBezTo>
                <a:cubicBezTo>
                  <a:pt x="2816" y="168"/>
                  <a:pt x="2800" y="192"/>
                  <a:pt x="2832" y="208"/>
                </a:cubicBezTo>
                <a:cubicBezTo>
                  <a:pt x="2864" y="224"/>
                  <a:pt x="2928" y="248"/>
                  <a:pt x="2976" y="256"/>
                </a:cubicBezTo>
                <a:cubicBezTo>
                  <a:pt x="3024" y="264"/>
                  <a:pt x="3080" y="256"/>
                  <a:pt x="3120" y="256"/>
                </a:cubicBezTo>
                <a:cubicBezTo>
                  <a:pt x="3160" y="256"/>
                  <a:pt x="3176" y="256"/>
                  <a:pt x="3216" y="256"/>
                </a:cubicBezTo>
                <a:cubicBezTo>
                  <a:pt x="3256" y="256"/>
                  <a:pt x="3320" y="264"/>
                  <a:pt x="3360" y="256"/>
                </a:cubicBezTo>
                <a:cubicBezTo>
                  <a:pt x="3400" y="248"/>
                  <a:pt x="3424" y="216"/>
                  <a:pt x="3456" y="208"/>
                </a:cubicBezTo>
                <a:cubicBezTo>
                  <a:pt x="3488" y="200"/>
                  <a:pt x="3520" y="216"/>
                  <a:pt x="3552" y="208"/>
                </a:cubicBezTo>
                <a:cubicBezTo>
                  <a:pt x="3584" y="200"/>
                  <a:pt x="3616" y="176"/>
                  <a:pt x="3648" y="160"/>
                </a:cubicBezTo>
                <a:cubicBezTo>
                  <a:pt x="3680" y="144"/>
                  <a:pt x="3720" y="128"/>
                  <a:pt x="3744" y="112"/>
                </a:cubicBezTo>
                <a:cubicBezTo>
                  <a:pt x="3768" y="96"/>
                  <a:pt x="3776" y="80"/>
                  <a:pt x="3792" y="64"/>
                </a:cubicBezTo>
                <a:cubicBezTo>
                  <a:pt x="3808" y="48"/>
                  <a:pt x="3824" y="0"/>
                  <a:pt x="3840" y="16"/>
                </a:cubicBezTo>
                <a:cubicBezTo>
                  <a:pt x="3856" y="32"/>
                  <a:pt x="3888" y="128"/>
                  <a:pt x="3888" y="160"/>
                </a:cubicBezTo>
                <a:cubicBezTo>
                  <a:pt x="3888" y="192"/>
                  <a:pt x="3848" y="184"/>
                  <a:pt x="3840" y="208"/>
                </a:cubicBezTo>
                <a:cubicBezTo>
                  <a:pt x="3832" y="232"/>
                  <a:pt x="3832" y="280"/>
                  <a:pt x="3840" y="304"/>
                </a:cubicBezTo>
                <a:cubicBezTo>
                  <a:pt x="3848" y="328"/>
                  <a:pt x="3880" y="328"/>
                  <a:pt x="3888" y="352"/>
                </a:cubicBezTo>
                <a:cubicBezTo>
                  <a:pt x="3896" y="376"/>
                  <a:pt x="3888" y="416"/>
                  <a:pt x="3888" y="448"/>
                </a:cubicBezTo>
                <a:cubicBezTo>
                  <a:pt x="3888" y="480"/>
                  <a:pt x="3880" y="520"/>
                  <a:pt x="3888" y="544"/>
                </a:cubicBezTo>
                <a:cubicBezTo>
                  <a:pt x="3896" y="568"/>
                  <a:pt x="3916" y="580"/>
                  <a:pt x="3936" y="59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1511280"/>
            <a:ext cx="1752480" cy="393840"/>
          </a:xfrm>
          <a:custGeom>
            <a:avLst/>
            <a:gdLst/>
            <a:ahLst/>
            <a:rect l="l" t="t" r="r" b="b"/>
            <a:pathLst>
              <a:path w="1104" h="248">
                <a:moveTo>
                  <a:pt x="0" y="248"/>
                </a:moveTo>
                <a:cubicBezTo>
                  <a:pt x="16" y="216"/>
                  <a:pt x="32" y="184"/>
                  <a:pt x="48" y="152"/>
                </a:cubicBezTo>
                <a:cubicBezTo>
                  <a:pt x="64" y="120"/>
                  <a:pt x="72" y="80"/>
                  <a:pt x="96" y="56"/>
                </a:cubicBezTo>
                <a:cubicBezTo>
                  <a:pt x="120" y="32"/>
                  <a:pt x="136" y="16"/>
                  <a:pt x="192" y="8"/>
                </a:cubicBezTo>
                <a:cubicBezTo>
                  <a:pt x="248" y="0"/>
                  <a:pt x="360" y="0"/>
                  <a:pt x="432" y="8"/>
                </a:cubicBezTo>
                <a:cubicBezTo>
                  <a:pt x="504" y="16"/>
                  <a:pt x="568" y="40"/>
                  <a:pt x="624" y="56"/>
                </a:cubicBezTo>
                <a:cubicBezTo>
                  <a:pt x="680" y="72"/>
                  <a:pt x="728" y="96"/>
                  <a:pt x="768" y="104"/>
                </a:cubicBezTo>
                <a:cubicBezTo>
                  <a:pt x="808" y="112"/>
                  <a:pt x="816" y="104"/>
                  <a:pt x="864" y="104"/>
                </a:cubicBezTo>
                <a:cubicBezTo>
                  <a:pt x="912" y="104"/>
                  <a:pt x="1016" y="96"/>
                  <a:pt x="1056" y="104"/>
                </a:cubicBezTo>
                <a:cubicBezTo>
                  <a:pt x="1096" y="112"/>
                  <a:pt x="1100" y="132"/>
                  <a:pt x="1104" y="15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60" y="2502000"/>
            <a:ext cx="3441960" cy="3085920"/>
          </a:xfrm>
          <a:custGeom>
            <a:avLst/>
            <a:gdLst/>
            <a:ahLst/>
            <a:rect l="l" t="t" r="r" b="b"/>
            <a:pathLst>
              <a:path w="2168" h="1944">
                <a:moveTo>
                  <a:pt x="8" y="1928"/>
                </a:moveTo>
                <a:cubicBezTo>
                  <a:pt x="68" y="1936"/>
                  <a:pt x="128" y="1944"/>
                  <a:pt x="152" y="1928"/>
                </a:cubicBezTo>
                <a:cubicBezTo>
                  <a:pt x="176" y="1912"/>
                  <a:pt x="152" y="1864"/>
                  <a:pt x="152" y="1832"/>
                </a:cubicBezTo>
                <a:cubicBezTo>
                  <a:pt x="152" y="1800"/>
                  <a:pt x="160" y="1768"/>
                  <a:pt x="152" y="1736"/>
                </a:cubicBezTo>
                <a:cubicBezTo>
                  <a:pt x="144" y="1704"/>
                  <a:pt x="112" y="1672"/>
                  <a:pt x="104" y="1640"/>
                </a:cubicBezTo>
                <a:cubicBezTo>
                  <a:pt x="96" y="1608"/>
                  <a:pt x="96" y="1568"/>
                  <a:pt x="104" y="1544"/>
                </a:cubicBezTo>
                <a:cubicBezTo>
                  <a:pt x="112" y="1520"/>
                  <a:pt x="144" y="1520"/>
                  <a:pt x="152" y="1496"/>
                </a:cubicBezTo>
                <a:cubicBezTo>
                  <a:pt x="160" y="1472"/>
                  <a:pt x="160" y="1432"/>
                  <a:pt x="152" y="1400"/>
                </a:cubicBezTo>
                <a:cubicBezTo>
                  <a:pt x="144" y="1368"/>
                  <a:pt x="128" y="1336"/>
                  <a:pt x="104" y="1304"/>
                </a:cubicBezTo>
                <a:cubicBezTo>
                  <a:pt x="80" y="1272"/>
                  <a:pt x="0" y="1224"/>
                  <a:pt x="8" y="1208"/>
                </a:cubicBezTo>
                <a:cubicBezTo>
                  <a:pt x="16" y="1192"/>
                  <a:pt x="128" y="1192"/>
                  <a:pt x="152" y="1208"/>
                </a:cubicBezTo>
                <a:cubicBezTo>
                  <a:pt x="176" y="1224"/>
                  <a:pt x="144" y="1304"/>
                  <a:pt x="152" y="1304"/>
                </a:cubicBezTo>
                <a:cubicBezTo>
                  <a:pt x="160" y="1304"/>
                  <a:pt x="176" y="1224"/>
                  <a:pt x="200" y="1208"/>
                </a:cubicBezTo>
                <a:cubicBezTo>
                  <a:pt x="224" y="1192"/>
                  <a:pt x="256" y="1184"/>
                  <a:pt x="296" y="1208"/>
                </a:cubicBezTo>
                <a:cubicBezTo>
                  <a:pt x="336" y="1232"/>
                  <a:pt x="400" y="1328"/>
                  <a:pt x="440" y="1352"/>
                </a:cubicBezTo>
                <a:cubicBezTo>
                  <a:pt x="480" y="1376"/>
                  <a:pt x="512" y="1344"/>
                  <a:pt x="536" y="1352"/>
                </a:cubicBezTo>
                <a:cubicBezTo>
                  <a:pt x="560" y="1360"/>
                  <a:pt x="552" y="1392"/>
                  <a:pt x="584" y="1400"/>
                </a:cubicBezTo>
                <a:cubicBezTo>
                  <a:pt x="616" y="1408"/>
                  <a:pt x="688" y="1416"/>
                  <a:pt x="728" y="1400"/>
                </a:cubicBezTo>
                <a:cubicBezTo>
                  <a:pt x="768" y="1384"/>
                  <a:pt x="784" y="1336"/>
                  <a:pt x="824" y="1304"/>
                </a:cubicBezTo>
                <a:cubicBezTo>
                  <a:pt x="864" y="1272"/>
                  <a:pt x="920" y="1232"/>
                  <a:pt x="968" y="1208"/>
                </a:cubicBezTo>
                <a:cubicBezTo>
                  <a:pt x="1016" y="1184"/>
                  <a:pt x="1056" y="1184"/>
                  <a:pt x="1112" y="1160"/>
                </a:cubicBezTo>
                <a:cubicBezTo>
                  <a:pt x="1168" y="1136"/>
                  <a:pt x="1256" y="1088"/>
                  <a:pt x="1304" y="1064"/>
                </a:cubicBezTo>
                <a:cubicBezTo>
                  <a:pt x="1352" y="1040"/>
                  <a:pt x="1376" y="1048"/>
                  <a:pt x="1400" y="1016"/>
                </a:cubicBezTo>
                <a:cubicBezTo>
                  <a:pt x="1424" y="984"/>
                  <a:pt x="1432" y="904"/>
                  <a:pt x="1448" y="872"/>
                </a:cubicBezTo>
                <a:cubicBezTo>
                  <a:pt x="1464" y="840"/>
                  <a:pt x="1472" y="856"/>
                  <a:pt x="1496" y="824"/>
                </a:cubicBezTo>
                <a:cubicBezTo>
                  <a:pt x="1520" y="792"/>
                  <a:pt x="1576" y="720"/>
                  <a:pt x="1592" y="680"/>
                </a:cubicBezTo>
                <a:cubicBezTo>
                  <a:pt x="1608" y="640"/>
                  <a:pt x="1576" y="608"/>
                  <a:pt x="1592" y="584"/>
                </a:cubicBezTo>
                <a:cubicBezTo>
                  <a:pt x="1608" y="560"/>
                  <a:pt x="1664" y="552"/>
                  <a:pt x="1688" y="536"/>
                </a:cubicBezTo>
                <a:cubicBezTo>
                  <a:pt x="1712" y="520"/>
                  <a:pt x="1712" y="496"/>
                  <a:pt x="1736" y="488"/>
                </a:cubicBezTo>
                <a:cubicBezTo>
                  <a:pt x="1760" y="480"/>
                  <a:pt x="1808" y="504"/>
                  <a:pt x="1832" y="488"/>
                </a:cubicBezTo>
                <a:cubicBezTo>
                  <a:pt x="1856" y="472"/>
                  <a:pt x="1864" y="416"/>
                  <a:pt x="1880" y="392"/>
                </a:cubicBezTo>
                <a:cubicBezTo>
                  <a:pt x="1896" y="368"/>
                  <a:pt x="1904" y="368"/>
                  <a:pt x="1928" y="344"/>
                </a:cubicBezTo>
                <a:cubicBezTo>
                  <a:pt x="1952" y="320"/>
                  <a:pt x="2000" y="280"/>
                  <a:pt x="2024" y="248"/>
                </a:cubicBezTo>
                <a:cubicBezTo>
                  <a:pt x="2048" y="216"/>
                  <a:pt x="2056" y="176"/>
                  <a:pt x="2072" y="152"/>
                </a:cubicBezTo>
                <a:cubicBezTo>
                  <a:pt x="2088" y="128"/>
                  <a:pt x="2112" y="128"/>
                  <a:pt x="2120" y="104"/>
                </a:cubicBezTo>
                <a:cubicBezTo>
                  <a:pt x="2128" y="80"/>
                  <a:pt x="2112" y="16"/>
                  <a:pt x="2120" y="8"/>
                </a:cubicBezTo>
                <a:cubicBezTo>
                  <a:pt x="2128" y="0"/>
                  <a:pt x="2168" y="48"/>
                  <a:pt x="2168" y="56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950080"/>
            <a:ext cx="106668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临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1844640"/>
            <a:ext cx="1066680" cy="5814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黑体"/>
              </a:rPr>
              <a:t>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4640"/>
            <a:ext cx="19429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匈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5727600"/>
            <a:ext cx="6192720" cy="106884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秦朝为什么要修筑长城呢？秦长城起止点分别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11280" y="2997360"/>
            <a:ext cx="1368720" cy="642600"/>
          </a:xfrm>
          <a:prstGeom prst="rect">
            <a:avLst/>
          </a:prstGeom>
          <a:solidFill>
            <a:srgbClr val="00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灵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990720"/>
            <a:ext cx="761760" cy="3962160"/>
          </a:xfrm>
          <a:custGeom>
            <a:avLst/>
            <a:gdLst>
              <a:gd name="textAreaLeft" fmla="*/ 101880 w 761760"/>
              <a:gd name="textAreaRight" fmla="*/ 659880 w 761760"/>
              <a:gd name="textAreaTop" fmla="*/ 693360 h 3962160"/>
              <a:gd name="textAreaBottom" fmla="*/ 2872800 h 39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950080"/>
            <a:ext cx="8028000" cy="581400"/>
          </a:xfrm>
          <a:prstGeom prst="rect">
            <a:avLst/>
          </a:prstGeom>
          <a:solidFill>
            <a:srgbClr val="9933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 Black"/>
                <a:ea typeface="楷体_GB2312"/>
              </a:rPr>
              <a:t>你能结合课本和地图谈谈灵渠的作用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9680" y="3657600"/>
            <a:ext cx="1399320" cy="1295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东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33920" y="20574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05320" y="4357800"/>
            <a:ext cx="3558960" cy="2043000"/>
          </a:xfrm>
          <a:custGeom>
            <a:avLst/>
            <a:gdLst/>
            <a:ahLst/>
            <a:rect l="l" t="t" r="r" b="b"/>
            <a:pathLst>
              <a:path w="2242" h="1287">
                <a:moveTo>
                  <a:pt x="358" y="159"/>
                </a:moveTo>
                <a:cubicBezTo>
                  <a:pt x="330" y="256"/>
                  <a:pt x="310" y="350"/>
                  <a:pt x="269" y="444"/>
                </a:cubicBezTo>
                <a:cubicBezTo>
                  <a:pt x="258" y="468"/>
                  <a:pt x="251" y="495"/>
                  <a:pt x="237" y="517"/>
                </a:cubicBezTo>
                <a:cubicBezTo>
                  <a:pt x="216" y="548"/>
                  <a:pt x="193" y="578"/>
                  <a:pt x="172" y="608"/>
                </a:cubicBezTo>
                <a:cubicBezTo>
                  <a:pt x="159" y="625"/>
                  <a:pt x="139" y="663"/>
                  <a:pt x="139" y="663"/>
                </a:cubicBezTo>
                <a:cubicBezTo>
                  <a:pt x="135" y="679"/>
                  <a:pt x="127" y="726"/>
                  <a:pt x="114" y="736"/>
                </a:cubicBezTo>
                <a:cubicBezTo>
                  <a:pt x="92" y="755"/>
                  <a:pt x="63" y="757"/>
                  <a:pt x="41" y="773"/>
                </a:cubicBezTo>
                <a:cubicBezTo>
                  <a:pt x="38" y="783"/>
                  <a:pt x="36" y="792"/>
                  <a:pt x="33" y="800"/>
                </a:cubicBezTo>
                <a:cubicBezTo>
                  <a:pt x="28" y="811"/>
                  <a:pt x="20" y="818"/>
                  <a:pt x="16" y="828"/>
                </a:cubicBezTo>
                <a:cubicBezTo>
                  <a:pt x="9" y="846"/>
                  <a:pt x="0" y="883"/>
                  <a:pt x="0" y="883"/>
                </a:cubicBezTo>
                <a:cubicBezTo>
                  <a:pt x="59" y="905"/>
                  <a:pt x="33" y="897"/>
                  <a:pt x="81" y="911"/>
                </a:cubicBezTo>
                <a:cubicBezTo>
                  <a:pt x="173" y="981"/>
                  <a:pt x="282" y="1013"/>
                  <a:pt x="389" y="1029"/>
                </a:cubicBezTo>
                <a:cubicBezTo>
                  <a:pt x="420" y="1034"/>
                  <a:pt x="471" y="1047"/>
                  <a:pt x="502" y="1051"/>
                </a:cubicBezTo>
                <a:cubicBezTo>
                  <a:pt x="550" y="1059"/>
                  <a:pt x="664" y="1002"/>
                  <a:pt x="711" y="1012"/>
                </a:cubicBezTo>
                <a:cubicBezTo>
                  <a:pt x="757" y="1008"/>
                  <a:pt x="765" y="1008"/>
                  <a:pt x="777" y="1025"/>
                </a:cubicBezTo>
                <a:cubicBezTo>
                  <a:pt x="789" y="1042"/>
                  <a:pt x="767" y="1090"/>
                  <a:pt x="782" y="1112"/>
                </a:cubicBezTo>
                <a:cubicBezTo>
                  <a:pt x="803" y="1121"/>
                  <a:pt x="847" y="1153"/>
                  <a:pt x="868" y="1156"/>
                </a:cubicBezTo>
                <a:cubicBezTo>
                  <a:pt x="924" y="1165"/>
                  <a:pt x="955" y="1149"/>
                  <a:pt x="1010" y="1159"/>
                </a:cubicBezTo>
                <a:cubicBezTo>
                  <a:pt x="1040" y="1164"/>
                  <a:pt x="1064" y="1168"/>
                  <a:pt x="1092" y="1177"/>
                </a:cubicBezTo>
                <a:cubicBezTo>
                  <a:pt x="1108" y="1182"/>
                  <a:pt x="1140" y="1195"/>
                  <a:pt x="1140" y="1195"/>
                </a:cubicBezTo>
                <a:cubicBezTo>
                  <a:pt x="1146" y="1215"/>
                  <a:pt x="1173" y="1287"/>
                  <a:pt x="1165" y="1269"/>
                </a:cubicBezTo>
                <a:cubicBezTo>
                  <a:pt x="1180" y="1283"/>
                  <a:pt x="1214" y="1287"/>
                  <a:pt x="1214" y="1287"/>
                </a:cubicBezTo>
                <a:cubicBezTo>
                  <a:pt x="1211" y="1272"/>
                  <a:pt x="1234" y="1274"/>
                  <a:pt x="1231" y="1259"/>
                </a:cubicBezTo>
                <a:cubicBezTo>
                  <a:pt x="1229" y="1250"/>
                  <a:pt x="1194" y="1222"/>
                  <a:pt x="1198" y="1214"/>
                </a:cubicBezTo>
                <a:cubicBezTo>
                  <a:pt x="1205" y="1193"/>
                  <a:pt x="1253" y="1188"/>
                  <a:pt x="1263" y="1186"/>
                </a:cubicBezTo>
                <a:cubicBezTo>
                  <a:pt x="1318" y="1145"/>
                  <a:pt x="1387" y="1136"/>
                  <a:pt x="1442" y="1095"/>
                </a:cubicBezTo>
                <a:cubicBezTo>
                  <a:pt x="1447" y="1082"/>
                  <a:pt x="1456" y="1071"/>
                  <a:pt x="1459" y="1058"/>
                </a:cubicBezTo>
                <a:cubicBezTo>
                  <a:pt x="1463" y="1034"/>
                  <a:pt x="1507" y="1107"/>
                  <a:pt x="1518" y="1085"/>
                </a:cubicBezTo>
                <a:cubicBezTo>
                  <a:pt x="1528" y="1065"/>
                  <a:pt x="1580" y="1029"/>
                  <a:pt x="1580" y="1029"/>
                </a:cubicBezTo>
                <a:cubicBezTo>
                  <a:pt x="1637" y="1051"/>
                  <a:pt x="1580" y="1006"/>
                  <a:pt x="1594" y="1051"/>
                </a:cubicBezTo>
                <a:cubicBezTo>
                  <a:pt x="1618" y="1048"/>
                  <a:pt x="1670" y="1027"/>
                  <a:pt x="1693" y="1018"/>
                </a:cubicBezTo>
                <a:cubicBezTo>
                  <a:pt x="1713" y="1011"/>
                  <a:pt x="1715" y="1008"/>
                  <a:pt x="1732" y="997"/>
                </a:cubicBezTo>
                <a:cubicBezTo>
                  <a:pt x="1737" y="992"/>
                  <a:pt x="1768" y="975"/>
                  <a:pt x="1769" y="975"/>
                </a:cubicBezTo>
                <a:cubicBezTo>
                  <a:pt x="1815" y="940"/>
                  <a:pt x="1875" y="900"/>
                  <a:pt x="1895" y="843"/>
                </a:cubicBezTo>
                <a:cubicBezTo>
                  <a:pt x="1901" y="825"/>
                  <a:pt x="1980" y="799"/>
                  <a:pt x="1994" y="788"/>
                </a:cubicBezTo>
                <a:cubicBezTo>
                  <a:pt x="2026" y="764"/>
                  <a:pt x="1999" y="735"/>
                  <a:pt x="2033" y="722"/>
                </a:cubicBezTo>
                <a:cubicBezTo>
                  <a:pt x="2060" y="692"/>
                  <a:pt x="2059" y="699"/>
                  <a:pt x="2073" y="659"/>
                </a:cubicBezTo>
                <a:cubicBezTo>
                  <a:pt x="2087" y="618"/>
                  <a:pt x="2056" y="593"/>
                  <a:pt x="2073" y="554"/>
                </a:cubicBezTo>
                <a:cubicBezTo>
                  <a:pt x="2113" y="465"/>
                  <a:pt x="2171" y="382"/>
                  <a:pt x="2196" y="271"/>
                </a:cubicBezTo>
                <a:cubicBezTo>
                  <a:pt x="2198" y="235"/>
                  <a:pt x="2152" y="31"/>
                  <a:pt x="2204" y="17"/>
                </a:cubicBezTo>
                <a:cubicBezTo>
                  <a:pt x="2206" y="8"/>
                  <a:pt x="2223" y="92"/>
                  <a:pt x="2230" y="96"/>
                </a:cubicBezTo>
                <a:cubicBezTo>
                  <a:pt x="2238" y="100"/>
                  <a:pt x="2215" y="138"/>
                  <a:pt x="2217" y="148"/>
                </a:cubicBezTo>
                <a:cubicBezTo>
                  <a:pt x="2242" y="105"/>
                  <a:pt x="2152" y="87"/>
                  <a:pt x="2138" y="43"/>
                </a:cubicBezTo>
                <a:cubicBezTo>
                  <a:pt x="2152" y="0"/>
                  <a:pt x="2080" y="121"/>
                  <a:pt x="2058" y="84"/>
                </a:cubicBezTo>
                <a:cubicBezTo>
                  <a:pt x="2001" y="92"/>
                  <a:pt x="2025" y="97"/>
                  <a:pt x="1982" y="129"/>
                </a:cubicBezTo>
                <a:cubicBezTo>
                  <a:pt x="1977" y="145"/>
                  <a:pt x="2035" y="39"/>
                  <a:pt x="2020" y="48"/>
                </a:cubicBezTo>
                <a:cubicBezTo>
                  <a:pt x="2006" y="58"/>
                  <a:pt x="1987" y="55"/>
                  <a:pt x="1971" y="67"/>
                </a:cubicBezTo>
                <a:cubicBezTo>
                  <a:pt x="1927" y="100"/>
                  <a:pt x="1884" y="115"/>
                  <a:pt x="1833" y="131"/>
                </a:cubicBezTo>
                <a:cubicBezTo>
                  <a:pt x="1817" y="136"/>
                  <a:pt x="1799" y="138"/>
                  <a:pt x="1784" y="149"/>
                </a:cubicBezTo>
                <a:cubicBezTo>
                  <a:pt x="1776" y="156"/>
                  <a:pt x="1769" y="163"/>
                  <a:pt x="1760" y="167"/>
                </a:cubicBezTo>
                <a:cubicBezTo>
                  <a:pt x="1747" y="172"/>
                  <a:pt x="1733" y="172"/>
                  <a:pt x="1719" y="177"/>
                </a:cubicBezTo>
                <a:cubicBezTo>
                  <a:pt x="1687" y="188"/>
                  <a:pt x="1654" y="201"/>
                  <a:pt x="1622" y="214"/>
                </a:cubicBezTo>
                <a:cubicBezTo>
                  <a:pt x="1605" y="219"/>
                  <a:pt x="1573" y="232"/>
                  <a:pt x="1573" y="232"/>
                </a:cubicBezTo>
                <a:cubicBezTo>
                  <a:pt x="1563" y="246"/>
                  <a:pt x="1497" y="285"/>
                  <a:pt x="1489" y="308"/>
                </a:cubicBezTo>
                <a:cubicBezTo>
                  <a:pt x="1481" y="331"/>
                  <a:pt x="1548" y="376"/>
                  <a:pt x="1524" y="369"/>
                </a:cubicBezTo>
                <a:cubicBezTo>
                  <a:pt x="1502" y="376"/>
                  <a:pt x="1382" y="266"/>
                  <a:pt x="1343" y="261"/>
                </a:cubicBezTo>
                <a:cubicBezTo>
                  <a:pt x="1298" y="235"/>
                  <a:pt x="1275" y="214"/>
                  <a:pt x="1254" y="216"/>
                </a:cubicBezTo>
                <a:cubicBezTo>
                  <a:pt x="1228" y="195"/>
                  <a:pt x="1253" y="289"/>
                  <a:pt x="1222" y="277"/>
                </a:cubicBezTo>
                <a:cubicBezTo>
                  <a:pt x="1204" y="247"/>
                  <a:pt x="1202" y="208"/>
                  <a:pt x="1189" y="186"/>
                </a:cubicBezTo>
                <a:cubicBezTo>
                  <a:pt x="1181" y="171"/>
                  <a:pt x="1154" y="163"/>
                  <a:pt x="1140" y="159"/>
                </a:cubicBezTo>
                <a:cubicBezTo>
                  <a:pt x="1108" y="267"/>
                  <a:pt x="1058" y="266"/>
                  <a:pt x="970" y="277"/>
                </a:cubicBezTo>
                <a:cubicBezTo>
                  <a:pt x="961" y="281"/>
                  <a:pt x="953" y="282"/>
                  <a:pt x="945" y="287"/>
                </a:cubicBezTo>
                <a:cubicBezTo>
                  <a:pt x="936" y="292"/>
                  <a:pt x="930" y="302"/>
                  <a:pt x="921" y="305"/>
                </a:cubicBezTo>
                <a:cubicBezTo>
                  <a:pt x="899" y="315"/>
                  <a:pt x="878" y="261"/>
                  <a:pt x="823" y="324"/>
                </a:cubicBezTo>
                <a:cubicBezTo>
                  <a:pt x="665" y="250"/>
                  <a:pt x="792" y="339"/>
                  <a:pt x="725" y="351"/>
                </a:cubicBezTo>
                <a:cubicBezTo>
                  <a:pt x="689" y="343"/>
                  <a:pt x="669" y="327"/>
                  <a:pt x="635" y="314"/>
                </a:cubicBezTo>
                <a:cubicBezTo>
                  <a:pt x="599" y="274"/>
                  <a:pt x="622" y="291"/>
                  <a:pt x="563" y="269"/>
                </a:cubicBezTo>
                <a:cubicBezTo>
                  <a:pt x="497" y="245"/>
                  <a:pt x="532" y="236"/>
                  <a:pt x="489" y="204"/>
                </a:cubicBezTo>
                <a:cubicBezTo>
                  <a:pt x="450" y="176"/>
                  <a:pt x="403" y="167"/>
                  <a:pt x="358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2209680"/>
            <a:ext cx="2438280" cy="609840"/>
          </a:xfrm>
          <a:custGeom>
            <a:avLst/>
            <a:gdLst/>
            <a:ahLst/>
            <a:rect l="l" t="t" r="r" b="b"/>
            <a:pathLst>
              <a:path w="1769" h="543">
                <a:moveTo>
                  <a:pt x="1769" y="543"/>
                </a:moveTo>
                <a:cubicBezTo>
                  <a:pt x="1764" y="418"/>
                  <a:pt x="1767" y="276"/>
                  <a:pt x="1715" y="156"/>
                </a:cubicBezTo>
                <a:cubicBezTo>
                  <a:pt x="1696" y="112"/>
                  <a:pt x="1649" y="81"/>
                  <a:pt x="1616" y="48"/>
                </a:cubicBezTo>
                <a:cubicBezTo>
                  <a:pt x="1593" y="25"/>
                  <a:pt x="1471" y="22"/>
                  <a:pt x="1463" y="21"/>
                </a:cubicBezTo>
                <a:cubicBezTo>
                  <a:pt x="1440" y="13"/>
                  <a:pt x="1416" y="0"/>
                  <a:pt x="1391" y="21"/>
                </a:cubicBezTo>
                <a:cubicBezTo>
                  <a:pt x="1381" y="29"/>
                  <a:pt x="1391" y="48"/>
                  <a:pt x="1382" y="57"/>
                </a:cubicBezTo>
                <a:cubicBezTo>
                  <a:pt x="1373" y="66"/>
                  <a:pt x="1358" y="62"/>
                  <a:pt x="1346" y="66"/>
                </a:cubicBezTo>
                <a:cubicBezTo>
                  <a:pt x="1328" y="71"/>
                  <a:pt x="1292" y="84"/>
                  <a:pt x="1292" y="84"/>
                </a:cubicBezTo>
                <a:cubicBezTo>
                  <a:pt x="1170" y="206"/>
                  <a:pt x="1035" y="218"/>
                  <a:pt x="869" y="228"/>
                </a:cubicBezTo>
                <a:cubicBezTo>
                  <a:pt x="859" y="231"/>
                  <a:pt x="745" y="281"/>
                  <a:pt x="734" y="282"/>
                </a:cubicBezTo>
                <a:cubicBezTo>
                  <a:pt x="620" y="288"/>
                  <a:pt x="506" y="288"/>
                  <a:pt x="392" y="291"/>
                </a:cubicBezTo>
                <a:cubicBezTo>
                  <a:pt x="281" y="288"/>
                  <a:pt x="170" y="282"/>
                  <a:pt x="59" y="282"/>
                </a:cubicBezTo>
                <a:cubicBezTo>
                  <a:pt x="44" y="282"/>
                  <a:pt x="0" y="318"/>
                  <a:pt x="32" y="318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2743200"/>
            <a:ext cx="1063440" cy="895320"/>
          </a:xfrm>
          <a:custGeom>
            <a:avLst/>
            <a:gdLst/>
            <a:ahLst/>
            <a:rect l="l" t="t" r="r" b="b"/>
            <a:pathLst>
              <a:path w="670" h="612">
                <a:moveTo>
                  <a:pt x="670" y="0"/>
                </a:moveTo>
                <a:cubicBezTo>
                  <a:pt x="661" y="3"/>
                  <a:pt x="649" y="1"/>
                  <a:pt x="643" y="9"/>
                </a:cubicBezTo>
                <a:cubicBezTo>
                  <a:pt x="626" y="32"/>
                  <a:pt x="636" y="70"/>
                  <a:pt x="616" y="90"/>
                </a:cubicBezTo>
                <a:cubicBezTo>
                  <a:pt x="581" y="125"/>
                  <a:pt x="596" y="106"/>
                  <a:pt x="571" y="144"/>
                </a:cubicBezTo>
                <a:cubicBezTo>
                  <a:pt x="548" y="226"/>
                  <a:pt x="519" y="311"/>
                  <a:pt x="445" y="360"/>
                </a:cubicBezTo>
                <a:cubicBezTo>
                  <a:pt x="430" y="405"/>
                  <a:pt x="411" y="396"/>
                  <a:pt x="364" y="405"/>
                </a:cubicBezTo>
                <a:cubicBezTo>
                  <a:pt x="322" y="426"/>
                  <a:pt x="320" y="444"/>
                  <a:pt x="283" y="468"/>
                </a:cubicBezTo>
                <a:cubicBezTo>
                  <a:pt x="280" y="477"/>
                  <a:pt x="282" y="489"/>
                  <a:pt x="274" y="495"/>
                </a:cubicBezTo>
                <a:cubicBezTo>
                  <a:pt x="237" y="521"/>
                  <a:pt x="149" y="531"/>
                  <a:pt x="103" y="540"/>
                </a:cubicBezTo>
                <a:cubicBezTo>
                  <a:pt x="85" y="552"/>
                  <a:pt x="67" y="564"/>
                  <a:pt x="49" y="576"/>
                </a:cubicBezTo>
                <a:cubicBezTo>
                  <a:pt x="33" y="587"/>
                  <a:pt x="31" y="522"/>
                  <a:pt x="31" y="522"/>
                </a:cubicBezTo>
                <a:cubicBezTo>
                  <a:pt x="22" y="525"/>
                  <a:pt x="8" y="523"/>
                  <a:pt x="4" y="531"/>
                </a:cubicBezTo>
                <a:cubicBezTo>
                  <a:pt x="0" y="539"/>
                  <a:pt x="10" y="549"/>
                  <a:pt x="13" y="558"/>
                </a:cubicBezTo>
                <a:cubicBezTo>
                  <a:pt x="26" y="604"/>
                  <a:pt x="12" y="584"/>
                  <a:pt x="40" y="612"/>
                </a:cubicBezTo>
              </a:path>
            </a:pathLst>
          </a:custGeom>
          <a:noFill/>
          <a:ln w="1015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676520"/>
            <a:ext cx="137160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长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咸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365760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6156360"/>
            <a:ext cx="15242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南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1200" y="2971800"/>
            <a:ext cx="1399320" cy="1447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陇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81080" y="-100080"/>
            <a:ext cx="9144000" cy="6958080"/>
          </a:xfrm>
          <a:prstGeom prst="rect">
            <a:avLst/>
          </a:prstGeom>
          <a:ln w="95400">
            <a:solidFill>
              <a:srgbClr val="cc00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620120" y="18288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32767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20000" y="3808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82880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27432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33526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75480" y="2286000"/>
            <a:ext cx="1826280" cy="3159000"/>
          </a:xfrm>
          <a:prstGeom prst="rect">
            <a:avLst/>
          </a:prstGeom>
          <a:solidFill>
            <a:srgbClr val="00ff00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战国七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461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一、伴随课本  重温历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58920" y="1197000"/>
            <a:ext cx="73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思考与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目前祖国未完成的统一大业是什么？谈谈你对统一大业的认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4149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天下大势是分久必合，统一是历史发展的必然趋势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台湾一定会回到祖国母亲的怀抱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599760" y="620640"/>
            <a:ext cx="1642680" cy="3962520"/>
          </a:xfrm>
          <a:prstGeom prst="rect">
            <a:avLst/>
          </a:prstGeom>
          <a:solidFill>
            <a:srgbClr val="000066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隶书"/>
              </a:rPr>
              <a:t>读史使人智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8900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隶书"/>
              </a:rPr>
              <a:t>知识梳理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1773360"/>
            <a:ext cx="228600" cy="3733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47640" y="1484280"/>
            <a:ext cx="4492800" cy="568080"/>
            <a:chOff x="1547640" y="1484280"/>
            <a:chExt cx="4492800" cy="568080"/>
          </a:xfrm>
        </p:grpSpPr>
        <p:sp>
          <p:nvSpPr>
            <p:cNvPr id="227" name=""/>
            <p:cNvSpPr/>
            <p:nvPr/>
          </p:nvSpPr>
          <p:spPr>
            <a:xfrm>
              <a:off x="1547640" y="1531800"/>
              <a:ext cx="1612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ˎ̥"/>
                </a:rPr>
                <a:t>秦灭六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69680" y="1525680"/>
              <a:ext cx="151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公元前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2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93960" y="148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秦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92360" y="2349360"/>
            <a:ext cx="3276000" cy="3050640"/>
            <a:chOff x="1692360" y="2349360"/>
            <a:chExt cx="3276000" cy="3050640"/>
          </a:xfrm>
        </p:grpSpPr>
        <p:grpSp>
          <p:nvGrpSpPr>
            <p:cNvPr id="231" name=""/>
            <p:cNvGrpSpPr/>
            <p:nvPr/>
          </p:nvGrpSpPr>
          <p:grpSpPr>
            <a:xfrm>
              <a:off x="3139920" y="2349360"/>
              <a:ext cx="1828440" cy="3050640"/>
              <a:chOff x="3139920" y="2349360"/>
              <a:chExt cx="1828440" cy="3050640"/>
            </a:xfrm>
          </p:grpSpPr>
          <p:sp>
            <p:nvSpPr>
              <p:cNvPr id="232" name=""/>
              <p:cNvSpPr/>
              <p:nvPr/>
            </p:nvSpPr>
            <p:spPr>
              <a:xfrm>
                <a:off x="3215520" y="2349360"/>
                <a:ext cx="121896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政治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215520" y="3035160"/>
                <a:ext cx="137124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经济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15520" y="3720960"/>
                <a:ext cx="121896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文化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15520" y="4330800"/>
                <a:ext cx="129528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思想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39920" y="4940280"/>
                <a:ext cx="1828440" cy="459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民族关系上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1692360" y="2577960"/>
              <a:ext cx="1294560" cy="2743200"/>
              <a:chOff x="1692360" y="2577960"/>
              <a:chExt cx="1294560" cy="27432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92360" y="3263400"/>
                <a:ext cx="91404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ˎ̥"/>
                  </a:rPr>
                  <a:t>巩固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ˎ̥"/>
                  </a:rPr>
                  <a:t>统一   措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35000" y="2577960"/>
                <a:ext cx="151920" cy="2743200"/>
              </a:xfrm>
              <a:custGeom>
                <a:avLst/>
                <a:gdLst>
                  <a:gd name="textAreaLeft" fmla="*/ 97200 w 151920"/>
                  <a:gd name="textAreaRight" fmla="*/ 152280 w 151920"/>
                  <a:gd name="textAreaTop" fmla="*/ 71280 h 2743200"/>
                  <a:gd name="textAreaBottom" fmla="*/ 2671920 h 2743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ff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523880" y="5729400"/>
            <a:ext cx="2775960" cy="542160"/>
            <a:chOff x="1523880" y="5729400"/>
            <a:chExt cx="2775960" cy="542160"/>
          </a:xfrm>
        </p:grpSpPr>
        <p:sp>
          <p:nvSpPr>
            <p:cNvPr id="241" name=""/>
            <p:cNvSpPr/>
            <p:nvPr/>
          </p:nvSpPr>
          <p:spPr>
            <a:xfrm>
              <a:off x="1523880" y="5729400"/>
              <a:ext cx="1676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ˎ̥"/>
                </a:rPr>
                <a:t>秦朝疆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02720" y="5811840"/>
              <a:ext cx="897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四至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19112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建立专制主义的中央集权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3124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统一货币、度量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统一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焚书坑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59280" y="4869000"/>
            <a:ext cx="2439360" cy="893160"/>
            <a:chOff x="4859280" y="4869000"/>
            <a:chExt cx="2439360" cy="893160"/>
          </a:xfrm>
        </p:grpSpPr>
        <p:sp>
          <p:nvSpPr>
            <p:cNvPr id="248" name=""/>
            <p:cNvSpPr/>
            <p:nvPr/>
          </p:nvSpPr>
          <p:spPr>
            <a:xfrm>
              <a:off x="5011560" y="5381280"/>
              <a:ext cx="2286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南征越族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开凿灵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2400" y="4869000"/>
              <a:ext cx="1866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北击匈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修筑长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9280" y="5076720"/>
              <a:ext cx="75960" cy="532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3680 h 532800"/>
                <a:gd name="textAreaBottom" fmla="*/ 519120 h 53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0240" y="2060280"/>
            <a:ext cx="729000" cy="321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秦王扫六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260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所理解的秦始皇功过之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11970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对历史人物功过的评价，应该客观公正的去看待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隶书"/>
              </a:rPr>
              <a:t>一分为二的观点辩证地评价。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21337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始皇的“功”体现在：统一六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了春秋战国长期混战的局面，社会安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君主专制的中央集权的封建国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郡县制影响深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一货币、度量衡、文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强了经济文化的交流和发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筑万里长城和灵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国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发边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边远地区的经济得以发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4114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始皇的“过”体现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焚书坑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钳制了思想摧残了文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筑万里长城劳民伤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5157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但总体而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认为秦始皇的“功”大于“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685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习题小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1371600"/>
            <a:ext cx="86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19320"/>
            <a:ext cx="85345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英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刺客无名对秦王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剑”共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写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王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后只留下一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问秦统一后整理出来通行全国的标准文字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篆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文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篆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隶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措施属于秦始皇首创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修筑长城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方设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圆形方孔钱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规定最高统治者称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秦朝的行政系统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协助皇帝处理政事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丞相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尉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御史大夫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郡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2209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5257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838080"/>
            <a:ext cx="89917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统一的中央集权的封建国家的都城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安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咸阳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洛邑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镐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时修建了沟通长江水系和珠江水系的水利工程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都江堰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郑国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灵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加强思想控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议秦始皇焚书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管仲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商鞅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斯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荆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秦朝统一的过程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方不断进犯的少数民族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匈奴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犬戎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越族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羌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3915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6668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7732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83808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下哪项不是秦统一后加强中央集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固统一的措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中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帝以下设丞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御史大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行郡县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统一文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货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度量衡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北征匈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征越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行休养生息政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轻徭薄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“焚书坑儒”带来的消极影响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钳制了思想的发展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摧残了先秦文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加强了专制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央集权统治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制造了封建皇权摧残文化迫害知识分子的先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①②③④     B①②③     C ①② ④    D②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12193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32680" y="3749760"/>
            <a:ext cx="7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987640" y="3573360"/>
            <a:ext cx="4032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0624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谢谢</a:t>
            </a:r>
            <a:endParaRPr b="0" lang="en-US" sz="6600" spc="1" strike="noStrike">
              <a:ln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42840" y="74520"/>
            <a:ext cx="6261120" cy="6810480"/>
          </a:xfrm>
          <a:custGeom>
            <a:avLst/>
            <a:gdLst/>
            <a:ahLst/>
            <a:rect l="l" t="t" r="r" b="b"/>
            <a:pathLst>
              <a:path w="3944" h="4290">
                <a:moveTo>
                  <a:pt x="20" y="0"/>
                </a:moveTo>
                <a:lnTo>
                  <a:pt x="3930" y="0"/>
                </a:lnTo>
                <a:lnTo>
                  <a:pt x="3944" y="990"/>
                </a:lnTo>
                <a:lnTo>
                  <a:pt x="3803" y="999"/>
                </a:lnTo>
                <a:lnTo>
                  <a:pt x="3801" y="959"/>
                </a:lnTo>
                <a:lnTo>
                  <a:pt x="3813" y="913"/>
                </a:lnTo>
                <a:lnTo>
                  <a:pt x="3860" y="843"/>
                </a:lnTo>
                <a:lnTo>
                  <a:pt x="3829" y="801"/>
                </a:lnTo>
                <a:lnTo>
                  <a:pt x="3857" y="737"/>
                </a:lnTo>
                <a:lnTo>
                  <a:pt x="3860" y="662"/>
                </a:lnTo>
                <a:lnTo>
                  <a:pt x="3803" y="663"/>
                </a:lnTo>
                <a:lnTo>
                  <a:pt x="3753" y="647"/>
                </a:lnTo>
                <a:lnTo>
                  <a:pt x="3725" y="673"/>
                </a:lnTo>
                <a:lnTo>
                  <a:pt x="3697" y="647"/>
                </a:lnTo>
                <a:lnTo>
                  <a:pt x="3673" y="635"/>
                </a:lnTo>
                <a:lnTo>
                  <a:pt x="3655" y="611"/>
                </a:lnTo>
                <a:lnTo>
                  <a:pt x="3635" y="633"/>
                </a:lnTo>
                <a:lnTo>
                  <a:pt x="3575" y="657"/>
                </a:lnTo>
                <a:lnTo>
                  <a:pt x="3555" y="653"/>
                </a:lnTo>
                <a:lnTo>
                  <a:pt x="3529" y="687"/>
                </a:lnTo>
                <a:lnTo>
                  <a:pt x="3503" y="689"/>
                </a:lnTo>
                <a:lnTo>
                  <a:pt x="3503" y="707"/>
                </a:lnTo>
                <a:lnTo>
                  <a:pt x="3447" y="717"/>
                </a:lnTo>
                <a:lnTo>
                  <a:pt x="3405" y="751"/>
                </a:lnTo>
                <a:lnTo>
                  <a:pt x="3359" y="801"/>
                </a:lnTo>
                <a:lnTo>
                  <a:pt x="3327" y="817"/>
                </a:lnTo>
                <a:lnTo>
                  <a:pt x="3307" y="887"/>
                </a:lnTo>
                <a:lnTo>
                  <a:pt x="3267" y="911"/>
                </a:lnTo>
                <a:lnTo>
                  <a:pt x="3263" y="939"/>
                </a:lnTo>
                <a:lnTo>
                  <a:pt x="3227" y="953"/>
                </a:lnTo>
                <a:lnTo>
                  <a:pt x="3171" y="979"/>
                </a:lnTo>
                <a:lnTo>
                  <a:pt x="3179" y="947"/>
                </a:lnTo>
                <a:lnTo>
                  <a:pt x="3207" y="903"/>
                </a:lnTo>
                <a:lnTo>
                  <a:pt x="3233" y="905"/>
                </a:lnTo>
                <a:lnTo>
                  <a:pt x="3251" y="883"/>
                </a:lnTo>
                <a:lnTo>
                  <a:pt x="3247" y="849"/>
                </a:lnTo>
                <a:lnTo>
                  <a:pt x="3263" y="823"/>
                </a:lnTo>
                <a:lnTo>
                  <a:pt x="3213" y="815"/>
                </a:lnTo>
                <a:lnTo>
                  <a:pt x="3231" y="751"/>
                </a:lnTo>
                <a:lnTo>
                  <a:pt x="3205" y="709"/>
                </a:lnTo>
                <a:lnTo>
                  <a:pt x="3255" y="669"/>
                </a:lnTo>
                <a:lnTo>
                  <a:pt x="3257" y="623"/>
                </a:lnTo>
                <a:lnTo>
                  <a:pt x="3279" y="621"/>
                </a:lnTo>
                <a:lnTo>
                  <a:pt x="3319" y="527"/>
                </a:lnTo>
                <a:lnTo>
                  <a:pt x="3285" y="499"/>
                </a:lnTo>
                <a:lnTo>
                  <a:pt x="3218" y="435"/>
                </a:lnTo>
                <a:lnTo>
                  <a:pt x="3181" y="483"/>
                </a:lnTo>
                <a:lnTo>
                  <a:pt x="3105" y="493"/>
                </a:lnTo>
                <a:lnTo>
                  <a:pt x="3085" y="561"/>
                </a:lnTo>
                <a:lnTo>
                  <a:pt x="3045" y="597"/>
                </a:lnTo>
                <a:lnTo>
                  <a:pt x="3003" y="695"/>
                </a:lnTo>
                <a:lnTo>
                  <a:pt x="2897" y="721"/>
                </a:lnTo>
                <a:lnTo>
                  <a:pt x="2837" y="797"/>
                </a:lnTo>
                <a:lnTo>
                  <a:pt x="2813" y="849"/>
                </a:lnTo>
                <a:lnTo>
                  <a:pt x="2739" y="893"/>
                </a:lnTo>
                <a:lnTo>
                  <a:pt x="2705" y="873"/>
                </a:lnTo>
                <a:lnTo>
                  <a:pt x="2639" y="873"/>
                </a:lnTo>
                <a:lnTo>
                  <a:pt x="2605" y="925"/>
                </a:lnTo>
                <a:lnTo>
                  <a:pt x="2543" y="935"/>
                </a:lnTo>
                <a:lnTo>
                  <a:pt x="2528" y="979"/>
                </a:lnTo>
                <a:lnTo>
                  <a:pt x="2531" y="1085"/>
                </a:lnTo>
                <a:lnTo>
                  <a:pt x="2571" y="1145"/>
                </a:lnTo>
                <a:lnTo>
                  <a:pt x="2629" y="1217"/>
                </a:lnTo>
                <a:lnTo>
                  <a:pt x="2673" y="1261"/>
                </a:lnTo>
                <a:lnTo>
                  <a:pt x="2715" y="1257"/>
                </a:lnTo>
                <a:lnTo>
                  <a:pt x="2749" y="1291"/>
                </a:lnTo>
                <a:lnTo>
                  <a:pt x="2741" y="1365"/>
                </a:lnTo>
                <a:lnTo>
                  <a:pt x="2767" y="1351"/>
                </a:lnTo>
                <a:lnTo>
                  <a:pt x="2789" y="1299"/>
                </a:lnTo>
                <a:lnTo>
                  <a:pt x="2807" y="1307"/>
                </a:lnTo>
                <a:lnTo>
                  <a:pt x="2850" y="1387"/>
                </a:lnTo>
                <a:lnTo>
                  <a:pt x="2929" y="1389"/>
                </a:lnTo>
                <a:lnTo>
                  <a:pt x="2995" y="1355"/>
                </a:lnTo>
                <a:lnTo>
                  <a:pt x="2991" y="1305"/>
                </a:lnTo>
                <a:lnTo>
                  <a:pt x="3017" y="1291"/>
                </a:lnTo>
                <a:lnTo>
                  <a:pt x="3055" y="1269"/>
                </a:lnTo>
                <a:lnTo>
                  <a:pt x="3067" y="1245"/>
                </a:lnTo>
                <a:lnTo>
                  <a:pt x="3071" y="1197"/>
                </a:lnTo>
                <a:lnTo>
                  <a:pt x="3149" y="1169"/>
                </a:lnTo>
                <a:lnTo>
                  <a:pt x="3253" y="1215"/>
                </a:lnTo>
                <a:lnTo>
                  <a:pt x="3319" y="1231"/>
                </a:lnTo>
                <a:lnTo>
                  <a:pt x="3365" y="1201"/>
                </a:lnTo>
                <a:lnTo>
                  <a:pt x="3427" y="1217"/>
                </a:lnTo>
                <a:lnTo>
                  <a:pt x="3446" y="1206"/>
                </a:lnTo>
                <a:lnTo>
                  <a:pt x="3475" y="1215"/>
                </a:lnTo>
                <a:lnTo>
                  <a:pt x="3471" y="1253"/>
                </a:lnTo>
                <a:lnTo>
                  <a:pt x="3459" y="1289"/>
                </a:lnTo>
                <a:lnTo>
                  <a:pt x="3475" y="1307"/>
                </a:lnTo>
                <a:lnTo>
                  <a:pt x="3446" y="1342"/>
                </a:lnTo>
                <a:lnTo>
                  <a:pt x="3411" y="1351"/>
                </a:lnTo>
                <a:lnTo>
                  <a:pt x="3407" y="1335"/>
                </a:lnTo>
                <a:lnTo>
                  <a:pt x="3369" y="1335"/>
                </a:lnTo>
                <a:lnTo>
                  <a:pt x="3317" y="1379"/>
                </a:lnTo>
                <a:lnTo>
                  <a:pt x="3289" y="1383"/>
                </a:lnTo>
                <a:lnTo>
                  <a:pt x="3281" y="1411"/>
                </a:lnTo>
                <a:lnTo>
                  <a:pt x="3207" y="1433"/>
                </a:lnTo>
                <a:lnTo>
                  <a:pt x="3215" y="1463"/>
                </a:lnTo>
                <a:lnTo>
                  <a:pt x="3187" y="1501"/>
                </a:lnTo>
                <a:lnTo>
                  <a:pt x="3181" y="1551"/>
                </a:lnTo>
                <a:lnTo>
                  <a:pt x="3137" y="1583"/>
                </a:lnTo>
                <a:lnTo>
                  <a:pt x="3121" y="1543"/>
                </a:lnTo>
                <a:lnTo>
                  <a:pt x="3095" y="1553"/>
                </a:lnTo>
                <a:lnTo>
                  <a:pt x="3109" y="1589"/>
                </a:lnTo>
                <a:lnTo>
                  <a:pt x="3087" y="1621"/>
                </a:lnTo>
                <a:lnTo>
                  <a:pt x="3093" y="1659"/>
                </a:lnTo>
                <a:lnTo>
                  <a:pt x="3051" y="1709"/>
                </a:lnTo>
                <a:lnTo>
                  <a:pt x="2981" y="1831"/>
                </a:lnTo>
                <a:lnTo>
                  <a:pt x="2973" y="1881"/>
                </a:lnTo>
                <a:lnTo>
                  <a:pt x="2973" y="1925"/>
                </a:lnTo>
                <a:lnTo>
                  <a:pt x="3027" y="1969"/>
                </a:lnTo>
                <a:lnTo>
                  <a:pt x="3027" y="2015"/>
                </a:lnTo>
                <a:lnTo>
                  <a:pt x="3105" y="2085"/>
                </a:lnTo>
                <a:lnTo>
                  <a:pt x="3235" y="2187"/>
                </a:lnTo>
                <a:lnTo>
                  <a:pt x="3229" y="2221"/>
                </a:lnTo>
                <a:lnTo>
                  <a:pt x="3259" y="2245"/>
                </a:lnTo>
                <a:lnTo>
                  <a:pt x="3261" y="2309"/>
                </a:lnTo>
                <a:lnTo>
                  <a:pt x="3323" y="2361"/>
                </a:lnTo>
                <a:lnTo>
                  <a:pt x="3283" y="2409"/>
                </a:lnTo>
                <a:lnTo>
                  <a:pt x="3181" y="2407"/>
                </a:lnTo>
                <a:lnTo>
                  <a:pt x="3163" y="2445"/>
                </a:lnTo>
                <a:lnTo>
                  <a:pt x="3221" y="2507"/>
                </a:lnTo>
                <a:lnTo>
                  <a:pt x="3333" y="2485"/>
                </a:lnTo>
                <a:lnTo>
                  <a:pt x="3351" y="2509"/>
                </a:lnTo>
                <a:lnTo>
                  <a:pt x="3411" y="2523"/>
                </a:lnTo>
                <a:lnTo>
                  <a:pt x="3467" y="2569"/>
                </a:lnTo>
                <a:lnTo>
                  <a:pt x="3537" y="2699"/>
                </a:lnTo>
                <a:lnTo>
                  <a:pt x="3527" y="2763"/>
                </a:lnTo>
                <a:lnTo>
                  <a:pt x="3473" y="2827"/>
                </a:lnTo>
                <a:lnTo>
                  <a:pt x="3363" y="2873"/>
                </a:lnTo>
                <a:lnTo>
                  <a:pt x="3433" y="2893"/>
                </a:lnTo>
                <a:lnTo>
                  <a:pt x="3547" y="2851"/>
                </a:lnTo>
                <a:lnTo>
                  <a:pt x="3673" y="2897"/>
                </a:lnTo>
                <a:lnTo>
                  <a:pt x="3639" y="2951"/>
                </a:lnTo>
                <a:lnTo>
                  <a:pt x="3579" y="2999"/>
                </a:lnTo>
                <a:lnTo>
                  <a:pt x="3627" y="2999"/>
                </a:lnTo>
                <a:lnTo>
                  <a:pt x="3661" y="2965"/>
                </a:lnTo>
                <a:lnTo>
                  <a:pt x="3669" y="3011"/>
                </a:lnTo>
                <a:lnTo>
                  <a:pt x="3677" y="3053"/>
                </a:lnTo>
                <a:lnTo>
                  <a:pt x="3665" y="3063"/>
                </a:lnTo>
                <a:lnTo>
                  <a:pt x="3635" y="3049"/>
                </a:lnTo>
                <a:lnTo>
                  <a:pt x="3603" y="3079"/>
                </a:lnTo>
                <a:lnTo>
                  <a:pt x="3643" y="3127"/>
                </a:lnTo>
                <a:lnTo>
                  <a:pt x="3621" y="3195"/>
                </a:lnTo>
                <a:lnTo>
                  <a:pt x="3649" y="3265"/>
                </a:lnTo>
                <a:lnTo>
                  <a:pt x="3609" y="3295"/>
                </a:lnTo>
                <a:lnTo>
                  <a:pt x="3561" y="3275"/>
                </a:lnTo>
                <a:lnTo>
                  <a:pt x="3541" y="3297"/>
                </a:lnTo>
                <a:lnTo>
                  <a:pt x="3519" y="3369"/>
                </a:lnTo>
                <a:lnTo>
                  <a:pt x="3483" y="3435"/>
                </a:lnTo>
                <a:lnTo>
                  <a:pt x="3501" y="3469"/>
                </a:lnTo>
                <a:lnTo>
                  <a:pt x="3475" y="3527"/>
                </a:lnTo>
                <a:lnTo>
                  <a:pt x="3445" y="3523"/>
                </a:lnTo>
                <a:lnTo>
                  <a:pt x="3423" y="3541"/>
                </a:lnTo>
                <a:lnTo>
                  <a:pt x="3457" y="3565"/>
                </a:lnTo>
                <a:lnTo>
                  <a:pt x="3415" y="3611"/>
                </a:lnTo>
                <a:lnTo>
                  <a:pt x="3411" y="3677"/>
                </a:lnTo>
                <a:lnTo>
                  <a:pt x="3383" y="3675"/>
                </a:lnTo>
                <a:lnTo>
                  <a:pt x="3361" y="3649"/>
                </a:lnTo>
                <a:lnTo>
                  <a:pt x="3331" y="3657"/>
                </a:lnTo>
                <a:lnTo>
                  <a:pt x="3313" y="3703"/>
                </a:lnTo>
                <a:lnTo>
                  <a:pt x="3349" y="3681"/>
                </a:lnTo>
                <a:lnTo>
                  <a:pt x="3345" y="3731"/>
                </a:lnTo>
                <a:lnTo>
                  <a:pt x="3369" y="3739"/>
                </a:lnTo>
                <a:lnTo>
                  <a:pt x="3351" y="3813"/>
                </a:lnTo>
                <a:lnTo>
                  <a:pt x="3365" y="3843"/>
                </a:lnTo>
                <a:lnTo>
                  <a:pt x="3337" y="3915"/>
                </a:lnTo>
                <a:lnTo>
                  <a:pt x="3349" y="3961"/>
                </a:lnTo>
                <a:lnTo>
                  <a:pt x="3315" y="3933"/>
                </a:lnTo>
                <a:lnTo>
                  <a:pt x="3301" y="3955"/>
                </a:lnTo>
                <a:lnTo>
                  <a:pt x="3297" y="3975"/>
                </a:lnTo>
                <a:lnTo>
                  <a:pt x="3313" y="4001"/>
                </a:lnTo>
                <a:lnTo>
                  <a:pt x="3303" y="4013"/>
                </a:lnTo>
                <a:lnTo>
                  <a:pt x="3285" y="4015"/>
                </a:lnTo>
                <a:lnTo>
                  <a:pt x="3265" y="3993"/>
                </a:lnTo>
                <a:lnTo>
                  <a:pt x="3239" y="4025"/>
                </a:lnTo>
                <a:lnTo>
                  <a:pt x="3271" y="4043"/>
                </a:lnTo>
                <a:lnTo>
                  <a:pt x="3263" y="4093"/>
                </a:lnTo>
                <a:lnTo>
                  <a:pt x="3207" y="4105"/>
                </a:lnTo>
                <a:lnTo>
                  <a:pt x="3225" y="4137"/>
                </a:lnTo>
                <a:lnTo>
                  <a:pt x="3193" y="4189"/>
                </a:lnTo>
                <a:lnTo>
                  <a:pt x="3153" y="4163"/>
                </a:lnTo>
                <a:lnTo>
                  <a:pt x="3147" y="4191"/>
                </a:lnTo>
                <a:lnTo>
                  <a:pt x="3117" y="4169"/>
                </a:lnTo>
                <a:lnTo>
                  <a:pt x="3077" y="4197"/>
                </a:lnTo>
                <a:lnTo>
                  <a:pt x="3069" y="4235"/>
                </a:lnTo>
                <a:lnTo>
                  <a:pt x="3089" y="4237"/>
                </a:lnTo>
                <a:lnTo>
                  <a:pt x="3101" y="4277"/>
                </a:lnTo>
                <a:lnTo>
                  <a:pt x="3549" y="4283"/>
                </a:lnTo>
                <a:lnTo>
                  <a:pt x="3571" y="4235"/>
                </a:lnTo>
                <a:lnTo>
                  <a:pt x="3575" y="4173"/>
                </a:lnTo>
                <a:lnTo>
                  <a:pt x="3621" y="4117"/>
                </a:lnTo>
                <a:lnTo>
                  <a:pt x="3627" y="4051"/>
                </a:lnTo>
                <a:lnTo>
                  <a:pt x="3661" y="4019"/>
                </a:lnTo>
                <a:lnTo>
                  <a:pt x="3671" y="3993"/>
                </a:lnTo>
                <a:lnTo>
                  <a:pt x="3695" y="3969"/>
                </a:lnTo>
                <a:lnTo>
                  <a:pt x="3739" y="3927"/>
                </a:lnTo>
                <a:lnTo>
                  <a:pt x="3773" y="3927"/>
                </a:lnTo>
                <a:lnTo>
                  <a:pt x="3791" y="3949"/>
                </a:lnTo>
                <a:lnTo>
                  <a:pt x="3811" y="3953"/>
                </a:lnTo>
                <a:lnTo>
                  <a:pt x="3813" y="3973"/>
                </a:lnTo>
                <a:lnTo>
                  <a:pt x="3811" y="4049"/>
                </a:lnTo>
                <a:lnTo>
                  <a:pt x="3835" y="4127"/>
                </a:lnTo>
                <a:lnTo>
                  <a:pt x="3811" y="4175"/>
                </a:lnTo>
                <a:lnTo>
                  <a:pt x="3825" y="4225"/>
                </a:lnTo>
                <a:lnTo>
                  <a:pt x="3809" y="4259"/>
                </a:lnTo>
                <a:lnTo>
                  <a:pt x="3813" y="4290"/>
                </a:lnTo>
                <a:lnTo>
                  <a:pt x="0" y="4283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26960" y="343080"/>
            <a:ext cx="5800680" cy="6254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3286080"/>
            <a:ext cx="412560" cy="471600"/>
          </a:xfrm>
          <a:custGeom>
            <a:avLst/>
            <a:gdLst/>
            <a:ahLst/>
            <a:rect l="l" t="t" r="r" b="b"/>
            <a:pathLst>
              <a:path w="260" h="297">
                <a:moveTo>
                  <a:pt x="162" y="144"/>
                </a:moveTo>
                <a:cubicBezTo>
                  <a:pt x="163" y="136"/>
                  <a:pt x="164" y="128"/>
                  <a:pt x="167" y="120"/>
                </a:cubicBezTo>
                <a:cubicBezTo>
                  <a:pt x="168" y="114"/>
                  <a:pt x="171" y="109"/>
                  <a:pt x="171" y="104"/>
                </a:cubicBezTo>
                <a:lnTo>
                  <a:pt x="216" y="90"/>
                </a:lnTo>
                <a:lnTo>
                  <a:pt x="248" y="72"/>
                </a:lnTo>
                <a:lnTo>
                  <a:pt x="260" y="33"/>
                </a:lnTo>
                <a:lnTo>
                  <a:pt x="226" y="11"/>
                </a:lnTo>
                <a:lnTo>
                  <a:pt x="87" y="0"/>
                </a:lnTo>
                <a:lnTo>
                  <a:pt x="36" y="21"/>
                </a:lnTo>
                <a:lnTo>
                  <a:pt x="0" y="56"/>
                </a:lnTo>
                <a:lnTo>
                  <a:pt x="0" y="101"/>
                </a:lnTo>
                <a:lnTo>
                  <a:pt x="35" y="104"/>
                </a:lnTo>
                <a:lnTo>
                  <a:pt x="45" y="147"/>
                </a:lnTo>
                <a:lnTo>
                  <a:pt x="26" y="165"/>
                </a:lnTo>
                <a:lnTo>
                  <a:pt x="18" y="186"/>
                </a:lnTo>
                <a:lnTo>
                  <a:pt x="45" y="192"/>
                </a:lnTo>
                <a:lnTo>
                  <a:pt x="57" y="240"/>
                </a:lnTo>
                <a:lnTo>
                  <a:pt x="90" y="283"/>
                </a:lnTo>
                <a:lnTo>
                  <a:pt x="117" y="297"/>
                </a:lnTo>
                <a:lnTo>
                  <a:pt x="136" y="283"/>
                </a:lnTo>
                <a:lnTo>
                  <a:pt x="181" y="237"/>
                </a:lnTo>
                <a:lnTo>
                  <a:pt x="207" y="183"/>
                </a:lnTo>
                <a:lnTo>
                  <a:pt x="165" y="146"/>
                </a:lnTo>
                <a:lnTo>
                  <a:pt x="181" y="101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879480"/>
            <a:ext cx="1173240" cy="2262240"/>
          </a:xfrm>
          <a:custGeom>
            <a:avLst/>
            <a:gdLst/>
            <a:ahLst/>
            <a:rect l="l" t="t" r="r" b="b"/>
            <a:pathLst>
              <a:path w="739" h="1425">
                <a:moveTo>
                  <a:pt x="82" y="564"/>
                </a:moveTo>
                <a:lnTo>
                  <a:pt x="37" y="518"/>
                </a:lnTo>
                <a:lnTo>
                  <a:pt x="40" y="474"/>
                </a:lnTo>
                <a:lnTo>
                  <a:pt x="84" y="450"/>
                </a:lnTo>
                <a:lnTo>
                  <a:pt x="82" y="428"/>
                </a:lnTo>
                <a:lnTo>
                  <a:pt x="63" y="417"/>
                </a:lnTo>
                <a:lnTo>
                  <a:pt x="37" y="428"/>
                </a:lnTo>
                <a:lnTo>
                  <a:pt x="0" y="378"/>
                </a:lnTo>
                <a:lnTo>
                  <a:pt x="58" y="321"/>
                </a:lnTo>
                <a:lnTo>
                  <a:pt x="60" y="237"/>
                </a:lnTo>
                <a:lnTo>
                  <a:pt x="82" y="155"/>
                </a:lnTo>
                <a:lnTo>
                  <a:pt x="111" y="134"/>
                </a:lnTo>
                <a:lnTo>
                  <a:pt x="172" y="78"/>
                </a:lnTo>
                <a:lnTo>
                  <a:pt x="218" y="19"/>
                </a:lnTo>
                <a:lnTo>
                  <a:pt x="229" y="0"/>
                </a:lnTo>
                <a:lnTo>
                  <a:pt x="263" y="19"/>
                </a:lnTo>
                <a:lnTo>
                  <a:pt x="263" y="110"/>
                </a:lnTo>
                <a:lnTo>
                  <a:pt x="225" y="143"/>
                </a:lnTo>
                <a:lnTo>
                  <a:pt x="218" y="201"/>
                </a:lnTo>
                <a:lnTo>
                  <a:pt x="264" y="269"/>
                </a:lnTo>
                <a:lnTo>
                  <a:pt x="294" y="309"/>
                </a:lnTo>
                <a:lnTo>
                  <a:pt x="291" y="371"/>
                </a:lnTo>
                <a:lnTo>
                  <a:pt x="349" y="402"/>
                </a:lnTo>
                <a:lnTo>
                  <a:pt x="354" y="438"/>
                </a:lnTo>
                <a:lnTo>
                  <a:pt x="330" y="459"/>
                </a:lnTo>
                <a:lnTo>
                  <a:pt x="316" y="477"/>
                </a:lnTo>
                <a:lnTo>
                  <a:pt x="352" y="507"/>
                </a:lnTo>
                <a:lnTo>
                  <a:pt x="399" y="536"/>
                </a:lnTo>
                <a:lnTo>
                  <a:pt x="456" y="534"/>
                </a:lnTo>
                <a:lnTo>
                  <a:pt x="511" y="545"/>
                </a:lnTo>
                <a:lnTo>
                  <a:pt x="630" y="534"/>
                </a:lnTo>
                <a:lnTo>
                  <a:pt x="678" y="531"/>
                </a:lnTo>
                <a:lnTo>
                  <a:pt x="703" y="528"/>
                </a:lnTo>
                <a:lnTo>
                  <a:pt x="714" y="560"/>
                </a:lnTo>
                <a:lnTo>
                  <a:pt x="709" y="593"/>
                </a:lnTo>
                <a:lnTo>
                  <a:pt x="717" y="609"/>
                </a:lnTo>
                <a:lnTo>
                  <a:pt x="739" y="650"/>
                </a:lnTo>
                <a:lnTo>
                  <a:pt x="660" y="677"/>
                </a:lnTo>
                <a:lnTo>
                  <a:pt x="663" y="773"/>
                </a:lnTo>
                <a:lnTo>
                  <a:pt x="592" y="816"/>
                </a:lnTo>
                <a:lnTo>
                  <a:pt x="597" y="944"/>
                </a:lnTo>
                <a:lnTo>
                  <a:pt x="592" y="999"/>
                </a:lnTo>
                <a:lnTo>
                  <a:pt x="577" y="1050"/>
                </a:lnTo>
                <a:lnTo>
                  <a:pt x="490" y="1063"/>
                </a:lnTo>
                <a:lnTo>
                  <a:pt x="475" y="1136"/>
                </a:lnTo>
                <a:lnTo>
                  <a:pt x="478" y="1175"/>
                </a:lnTo>
                <a:lnTo>
                  <a:pt x="405" y="1232"/>
                </a:lnTo>
                <a:lnTo>
                  <a:pt x="385" y="1322"/>
                </a:lnTo>
                <a:lnTo>
                  <a:pt x="342" y="1316"/>
                </a:lnTo>
                <a:lnTo>
                  <a:pt x="315" y="1346"/>
                </a:lnTo>
                <a:lnTo>
                  <a:pt x="277" y="1374"/>
                </a:lnTo>
                <a:lnTo>
                  <a:pt x="261" y="1406"/>
                </a:lnTo>
                <a:lnTo>
                  <a:pt x="243" y="1407"/>
                </a:lnTo>
                <a:lnTo>
                  <a:pt x="169" y="1421"/>
                </a:lnTo>
                <a:lnTo>
                  <a:pt x="120" y="1425"/>
                </a:lnTo>
                <a:lnTo>
                  <a:pt x="39" y="1398"/>
                </a:lnTo>
                <a:lnTo>
                  <a:pt x="45" y="1397"/>
                </a:lnTo>
                <a:lnTo>
                  <a:pt x="106" y="1362"/>
                </a:lnTo>
                <a:lnTo>
                  <a:pt x="109" y="1266"/>
                </a:lnTo>
                <a:lnTo>
                  <a:pt x="94" y="1187"/>
                </a:lnTo>
                <a:lnTo>
                  <a:pt x="96" y="1155"/>
                </a:lnTo>
                <a:lnTo>
                  <a:pt x="61" y="1148"/>
                </a:lnTo>
                <a:lnTo>
                  <a:pt x="58" y="1076"/>
                </a:lnTo>
                <a:lnTo>
                  <a:pt x="93" y="1085"/>
                </a:lnTo>
                <a:lnTo>
                  <a:pt x="97" y="987"/>
                </a:lnTo>
                <a:lnTo>
                  <a:pt x="139" y="890"/>
                </a:lnTo>
                <a:lnTo>
                  <a:pt x="148" y="840"/>
                </a:lnTo>
                <a:lnTo>
                  <a:pt x="111" y="818"/>
                </a:lnTo>
                <a:lnTo>
                  <a:pt x="93" y="785"/>
                </a:lnTo>
                <a:lnTo>
                  <a:pt x="63" y="776"/>
                </a:lnTo>
                <a:lnTo>
                  <a:pt x="49" y="741"/>
                </a:lnTo>
                <a:lnTo>
                  <a:pt x="73" y="698"/>
                </a:lnTo>
                <a:lnTo>
                  <a:pt x="81" y="633"/>
                </a:lnTo>
                <a:lnTo>
                  <a:pt x="82" y="609"/>
                </a:lnTo>
                <a:lnTo>
                  <a:pt x="81" y="560"/>
                </a:lnTo>
                <a:lnTo>
                  <a:pt x="37" y="51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14720" y="2925720"/>
            <a:ext cx="880920" cy="963720"/>
          </a:xfrm>
          <a:custGeom>
            <a:avLst/>
            <a:gdLst/>
            <a:ahLst/>
            <a:rect l="l" t="t" r="r" b="b"/>
            <a:pathLst>
              <a:path w="555" h="607">
                <a:moveTo>
                  <a:pt x="476" y="18"/>
                </a:moveTo>
                <a:lnTo>
                  <a:pt x="522" y="63"/>
                </a:lnTo>
                <a:lnTo>
                  <a:pt x="522" y="108"/>
                </a:lnTo>
                <a:lnTo>
                  <a:pt x="535" y="137"/>
                </a:lnTo>
                <a:lnTo>
                  <a:pt x="519" y="161"/>
                </a:lnTo>
                <a:lnTo>
                  <a:pt x="522" y="199"/>
                </a:lnTo>
                <a:lnTo>
                  <a:pt x="507" y="216"/>
                </a:lnTo>
                <a:lnTo>
                  <a:pt x="522" y="245"/>
                </a:lnTo>
                <a:lnTo>
                  <a:pt x="526" y="275"/>
                </a:lnTo>
                <a:lnTo>
                  <a:pt x="555" y="293"/>
                </a:lnTo>
                <a:lnTo>
                  <a:pt x="522" y="369"/>
                </a:lnTo>
                <a:lnTo>
                  <a:pt x="466" y="423"/>
                </a:lnTo>
                <a:lnTo>
                  <a:pt x="386" y="426"/>
                </a:lnTo>
                <a:lnTo>
                  <a:pt x="367" y="366"/>
                </a:lnTo>
                <a:lnTo>
                  <a:pt x="331" y="353"/>
                </a:lnTo>
                <a:lnTo>
                  <a:pt x="291" y="323"/>
                </a:lnTo>
                <a:lnTo>
                  <a:pt x="252" y="320"/>
                </a:lnTo>
                <a:lnTo>
                  <a:pt x="241" y="360"/>
                </a:lnTo>
                <a:lnTo>
                  <a:pt x="204" y="381"/>
                </a:lnTo>
                <a:lnTo>
                  <a:pt x="204" y="562"/>
                </a:lnTo>
                <a:lnTo>
                  <a:pt x="181" y="587"/>
                </a:lnTo>
                <a:lnTo>
                  <a:pt x="139" y="599"/>
                </a:lnTo>
                <a:lnTo>
                  <a:pt x="68" y="607"/>
                </a:lnTo>
                <a:lnTo>
                  <a:pt x="46" y="603"/>
                </a:lnTo>
                <a:lnTo>
                  <a:pt x="15" y="581"/>
                </a:lnTo>
                <a:lnTo>
                  <a:pt x="0" y="549"/>
                </a:lnTo>
                <a:lnTo>
                  <a:pt x="1" y="524"/>
                </a:lnTo>
                <a:lnTo>
                  <a:pt x="68" y="471"/>
                </a:lnTo>
                <a:lnTo>
                  <a:pt x="85" y="414"/>
                </a:lnTo>
                <a:lnTo>
                  <a:pt x="49" y="368"/>
                </a:lnTo>
                <a:lnTo>
                  <a:pt x="58" y="341"/>
                </a:lnTo>
                <a:lnTo>
                  <a:pt x="68" y="335"/>
                </a:lnTo>
                <a:lnTo>
                  <a:pt x="118" y="315"/>
                </a:lnTo>
                <a:lnTo>
                  <a:pt x="139" y="264"/>
                </a:lnTo>
                <a:lnTo>
                  <a:pt x="113" y="245"/>
                </a:lnTo>
                <a:lnTo>
                  <a:pt x="94" y="207"/>
                </a:lnTo>
                <a:lnTo>
                  <a:pt x="93" y="179"/>
                </a:lnTo>
                <a:lnTo>
                  <a:pt x="124" y="167"/>
                </a:lnTo>
                <a:lnTo>
                  <a:pt x="204" y="154"/>
                </a:lnTo>
                <a:lnTo>
                  <a:pt x="249" y="119"/>
                </a:lnTo>
                <a:lnTo>
                  <a:pt x="276" y="149"/>
                </a:lnTo>
                <a:lnTo>
                  <a:pt x="318" y="162"/>
                </a:lnTo>
                <a:lnTo>
                  <a:pt x="340" y="154"/>
                </a:lnTo>
                <a:lnTo>
                  <a:pt x="352" y="171"/>
                </a:lnTo>
                <a:lnTo>
                  <a:pt x="399" y="194"/>
                </a:lnTo>
                <a:lnTo>
                  <a:pt x="424" y="191"/>
                </a:lnTo>
                <a:lnTo>
                  <a:pt x="436" y="140"/>
                </a:lnTo>
                <a:lnTo>
                  <a:pt x="431" y="108"/>
                </a:lnTo>
                <a:lnTo>
                  <a:pt x="430" y="74"/>
                </a:lnTo>
                <a:lnTo>
                  <a:pt x="445" y="33"/>
                </a:lnTo>
                <a:lnTo>
                  <a:pt x="463" y="0"/>
                </a:lnTo>
                <a:lnTo>
                  <a:pt x="476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2738520"/>
            <a:ext cx="3436920" cy="4119480"/>
          </a:xfrm>
          <a:custGeom>
            <a:avLst/>
            <a:gdLst/>
            <a:ahLst/>
            <a:rect l="l" t="t" r="r" b="b"/>
            <a:pathLst>
              <a:path w="2165" h="2595">
                <a:moveTo>
                  <a:pt x="798" y="1523"/>
                </a:moveTo>
                <a:lnTo>
                  <a:pt x="749" y="1433"/>
                </a:lnTo>
                <a:lnTo>
                  <a:pt x="746" y="1329"/>
                </a:lnTo>
                <a:lnTo>
                  <a:pt x="758" y="1235"/>
                </a:lnTo>
                <a:lnTo>
                  <a:pt x="752" y="1164"/>
                </a:lnTo>
                <a:lnTo>
                  <a:pt x="708" y="1114"/>
                </a:lnTo>
                <a:lnTo>
                  <a:pt x="641" y="1098"/>
                </a:lnTo>
                <a:lnTo>
                  <a:pt x="609" y="1041"/>
                </a:lnTo>
                <a:lnTo>
                  <a:pt x="570" y="1023"/>
                </a:lnTo>
                <a:lnTo>
                  <a:pt x="526" y="978"/>
                </a:lnTo>
                <a:lnTo>
                  <a:pt x="527" y="918"/>
                </a:lnTo>
                <a:lnTo>
                  <a:pt x="571" y="888"/>
                </a:lnTo>
                <a:lnTo>
                  <a:pt x="591" y="900"/>
                </a:lnTo>
                <a:lnTo>
                  <a:pt x="615" y="878"/>
                </a:lnTo>
                <a:lnTo>
                  <a:pt x="530" y="804"/>
                </a:lnTo>
                <a:lnTo>
                  <a:pt x="526" y="751"/>
                </a:lnTo>
                <a:lnTo>
                  <a:pt x="602" y="746"/>
                </a:lnTo>
                <a:lnTo>
                  <a:pt x="639" y="729"/>
                </a:lnTo>
                <a:lnTo>
                  <a:pt x="663" y="698"/>
                </a:lnTo>
                <a:lnTo>
                  <a:pt x="669" y="605"/>
                </a:lnTo>
                <a:lnTo>
                  <a:pt x="650" y="537"/>
                </a:lnTo>
                <a:lnTo>
                  <a:pt x="686" y="512"/>
                </a:lnTo>
                <a:lnTo>
                  <a:pt x="708" y="479"/>
                </a:lnTo>
                <a:lnTo>
                  <a:pt x="729" y="468"/>
                </a:lnTo>
                <a:lnTo>
                  <a:pt x="762" y="470"/>
                </a:lnTo>
                <a:lnTo>
                  <a:pt x="791" y="504"/>
                </a:lnTo>
                <a:lnTo>
                  <a:pt x="825" y="512"/>
                </a:lnTo>
                <a:lnTo>
                  <a:pt x="848" y="573"/>
                </a:lnTo>
                <a:lnTo>
                  <a:pt x="924" y="561"/>
                </a:lnTo>
                <a:lnTo>
                  <a:pt x="984" y="506"/>
                </a:lnTo>
                <a:lnTo>
                  <a:pt x="1008" y="441"/>
                </a:lnTo>
                <a:lnTo>
                  <a:pt x="969" y="389"/>
                </a:lnTo>
                <a:lnTo>
                  <a:pt x="974" y="341"/>
                </a:lnTo>
                <a:lnTo>
                  <a:pt x="989" y="284"/>
                </a:lnTo>
                <a:lnTo>
                  <a:pt x="980" y="252"/>
                </a:lnTo>
                <a:lnTo>
                  <a:pt x="981" y="213"/>
                </a:lnTo>
                <a:lnTo>
                  <a:pt x="950" y="168"/>
                </a:lnTo>
                <a:lnTo>
                  <a:pt x="887" y="111"/>
                </a:lnTo>
                <a:lnTo>
                  <a:pt x="870" y="69"/>
                </a:lnTo>
                <a:lnTo>
                  <a:pt x="879" y="27"/>
                </a:lnTo>
                <a:lnTo>
                  <a:pt x="986" y="24"/>
                </a:lnTo>
                <a:lnTo>
                  <a:pt x="1073" y="6"/>
                </a:lnTo>
                <a:lnTo>
                  <a:pt x="1158" y="0"/>
                </a:lnTo>
                <a:lnTo>
                  <a:pt x="1176" y="36"/>
                </a:lnTo>
                <a:lnTo>
                  <a:pt x="1173" y="92"/>
                </a:lnTo>
                <a:lnTo>
                  <a:pt x="1149" y="159"/>
                </a:lnTo>
                <a:lnTo>
                  <a:pt x="1161" y="207"/>
                </a:lnTo>
                <a:lnTo>
                  <a:pt x="1179" y="249"/>
                </a:lnTo>
                <a:lnTo>
                  <a:pt x="1215" y="209"/>
                </a:lnTo>
                <a:lnTo>
                  <a:pt x="1278" y="209"/>
                </a:lnTo>
                <a:lnTo>
                  <a:pt x="1334" y="224"/>
                </a:lnTo>
                <a:lnTo>
                  <a:pt x="1380" y="245"/>
                </a:lnTo>
                <a:lnTo>
                  <a:pt x="1454" y="230"/>
                </a:lnTo>
                <a:lnTo>
                  <a:pt x="1464" y="272"/>
                </a:lnTo>
                <a:lnTo>
                  <a:pt x="1514" y="312"/>
                </a:lnTo>
                <a:lnTo>
                  <a:pt x="1512" y="351"/>
                </a:lnTo>
                <a:lnTo>
                  <a:pt x="1578" y="425"/>
                </a:lnTo>
                <a:lnTo>
                  <a:pt x="1658" y="470"/>
                </a:lnTo>
                <a:lnTo>
                  <a:pt x="1725" y="552"/>
                </a:lnTo>
                <a:lnTo>
                  <a:pt x="1718" y="570"/>
                </a:lnTo>
                <a:lnTo>
                  <a:pt x="1742" y="597"/>
                </a:lnTo>
                <a:lnTo>
                  <a:pt x="1745" y="648"/>
                </a:lnTo>
                <a:lnTo>
                  <a:pt x="1802" y="693"/>
                </a:lnTo>
                <a:lnTo>
                  <a:pt x="1764" y="749"/>
                </a:lnTo>
                <a:lnTo>
                  <a:pt x="1660" y="751"/>
                </a:lnTo>
                <a:lnTo>
                  <a:pt x="1635" y="783"/>
                </a:lnTo>
                <a:lnTo>
                  <a:pt x="1705" y="842"/>
                </a:lnTo>
                <a:lnTo>
                  <a:pt x="1793" y="822"/>
                </a:lnTo>
                <a:lnTo>
                  <a:pt x="1833" y="822"/>
                </a:lnTo>
                <a:lnTo>
                  <a:pt x="1841" y="851"/>
                </a:lnTo>
                <a:lnTo>
                  <a:pt x="1887" y="861"/>
                </a:lnTo>
                <a:lnTo>
                  <a:pt x="1965" y="948"/>
                </a:lnTo>
                <a:lnTo>
                  <a:pt x="2003" y="1016"/>
                </a:lnTo>
                <a:lnTo>
                  <a:pt x="2023" y="1069"/>
                </a:lnTo>
                <a:lnTo>
                  <a:pt x="1943" y="1166"/>
                </a:lnTo>
                <a:lnTo>
                  <a:pt x="1838" y="1205"/>
                </a:lnTo>
                <a:lnTo>
                  <a:pt x="1911" y="1232"/>
                </a:lnTo>
                <a:lnTo>
                  <a:pt x="1992" y="1197"/>
                </a:lnTo>
                <a:lnTo>
                  <a:pt x="2165" y="1233"/>
                </a:lnTo>
                <a:lnTo>
                  <a:pt x="2097" y="1311"/>
                </a:lnTo>
                <a:lnTo>
                  <a:pt x="2066" y="1340"/>
                </a:lnTo>
                <a:lnTo>
                  <a:pt x="2111" y="1338"/>
                </a:lnTo>
                <a:lnTo>
                  <a:pt x="2141" y="1299"/>
                </a:lnTo>
                <a:lnTo>
                  <a:pt x="2150" y="1338"/>
                </a:lnTo>
                <a:lnTo>
                  <a:pt x="2139" y="1362"/>
                </a:lnTo>
                <a:lnTo>
                  <a:pt x="2148" y="1394"/>
                </a:lnTo>
                <a:lnTo>
                  <a:pt x="2115" y="1377"/>
                </a:lnTo>
                <a:lnTo>
                  <a:pt x="2084" y="1404"/>
                </a:lnTo>
                <a:lnTo>
                  <a:pt x="2120" y="1430"/>
                </a:lnTo>
                <a:lnTo>
                  <a:pt x="2103" y="1469"/>
                </a:lnTo>
                <a:lnTo>
                  <a:pt x="2112" y="1500"/>
                </a:lnTo>
                <a:lnTo>
                  <a:pt x="2109" y="1548"/>
                </a:lnTo>
                <a:lnTo>
                  <a:pt x="2135" y="1604"/>
                </a:lnTo>
                <a:lnTo>
                  <a:pt x="2112" y="1614"/>
                </a:lnTo>
                <a:lnTo>
                  <a:pt x="2073" y="1625"/>
                </a:lnTo>
                <a:lnTo>
                  <a:pt x="2021" y="1614"/>
                </a:lnTo>
                <a:lnTo>
                  <a:pt x="2022" y="1658"/>
                </a:lnTo>
                <a:lnTo>
                  <a:pt x="1974" y="1764"/>
                </a:lnTo>
                <a:lnTo>
                  <a:pt x="1962" y="1784"/>
                </a:lnTo>
                <a:lnTo>
                  <a:pt x="1977" y="1812"/>
                </a:lnTo>
                <a:lnTo>
                  <a:pt x="1953" y="1871"/>
                </a:lnTo>
                <a:lnTo>
                  <a:pt x="1926" y="1863"/>
                </a:lnTo>
                <a:lnTo>
                  <a:pt x="1803" y="1835"/>
                </a:lnTo>
                <a:lnTo>
                  <a:pt x="1701" y="1791"/>
                </a:lnTo>
                <a:lnTo>
                  <a:pt x="1632" y="1752"/>
                </a:lnTo>
                <a:lnTo>
                  <a:pt x="1575" y="1757"/>
                </a:lnTo>
                <a:lnTo>
                  <a:pt x="1521" y="1782"/>
                </a:lnTo>
                <a:lnTo>
                  <a:pt x="1404" y="1851"/>
                </a:lnTo>
                <a:lnTo>
                  <a:pt x="1367" y="1830"/>
                </a:lnTo>
                <a:lnTo>
                  <a:pt x="1311" y="1887"/>
                </a:lnTo>
                <a:lnTo>
                  <a:pt x="1265" y="1919"/>
                </a:lnTo>
                <a:lnTo>
                  <a:pt x="1289" y="1988"/>
                </a:lnTo>
                <a:lnTo>
                  <a:pt x="1284" y="2049"/>
                </a:lnTo>
                <a:lnTo>
                  <a:pt x="1206" y="2067"/>
                </a:lnTo>
                <a:lnTo>
                  <a:pt x="1182" y="2090"/>
                </a:lnTo>
                <a:lnTo>
                  <a:pt x="1182" y="2145"/>
                </a:lnTo>
                <a:lnTo>
                  <a:pt x="1212" y="2211"/>
                </a:lnTo>
                <a:lnTo>
                  <a:pt x="1185" y="2301"/>
                </a:lnTo>
                <a:lnTo>
                  <a:pt x="1161" y="2426"/>
                </a:lnTo>
                <a:lnTo>
                  <a:pt x="1188" y="2457"/>
                </a:lnTo>
                <a:lnTo>
                  <a:pt x="1196" y="2486"/>
                </a:lnTo>
                <a:lnTo>
                  <a:pt x="1175" y="2517"/>
                </a:lnTo>
                <a:lnTo>
                  <a:pt x="1110" y="2499"/>
                </a:lnTo>
                <a:lnTo>
                  <a:pt x="1025" y="2531"/>
                </a:lnTo>
                <a:lnTo>
                  <a:pt x="960" y="2576"/>
                </a:lnTo>
                <a:lnTo>
                  <a:pt x="891" y="2591"/>
                </a:lnTo>
                <a:lnTo>
                  <a:pt x="840" y="2595"/>
                </a:lnTo>
                <a:lnTo>
                  <a:pt x="798" y="2566"/>
                </a:lnTo>
                <a:lnTo>
                  <a:pt x="806" y="2508"/>
                </a:lnTo>
                <a:lnTo>
                  <a:pt x="794" y="2468"/>
                </a:lnTo>
                <a:lnTo>
                  <a:pt x="773" y="2432"/>
                </a:lnTo>
                <a:lnTo>
                  <a:pt x="729" y="2429"/>
                </a:lnTo>
                <a:lnTo>
                  <a:pt x="708" y="2420"/>
                </a:lnTo>
                <a:lnTo>
                  <a:pt x="642" y="2465"/>
                </a:lnTo>
                <a:lnTo>
                  <a:pt x="590" y="2523"/>
                </a:lnTo>
                <a:lnTo>
                  <a:pt x="527" y="2558"/>
                </a:lnTo>
                <a:lnTo>
                  <a:pt x="498" y="2579"/>
                </a:lnTo>
                <a:lnTo>
                  <a:pt x="447" y="2582"/>
                </a:lnTo>
                <a:lnTo>
                  <a:pt x="369" y="2534"/>
                </a:lnTo>
                <a:lnTo>
                  <a:pt x="302" y="2552"/>
                </a:lnTo>
                <a:lnTo>
                  <a:pt x="297" y="2496"/>
                </a:lnTo>
                <a:lnTo>
                  <a:pt x="264" y="2463"/>
                </a:lnTo>
                <a:lnTo>
                  <a:pt x="146" y="2436"/>
                </a:lnTo>
                <a:lnTo>
                  <a:pt x="66" y="2354"/>
                </a:lnTo>
                <a:lnTo>
                  <a:pt x="21" y="2318"/>
                </a:lnTo>
                <a:lnTo>
                  <a:pt x="0" y="2244"/>
                </a:lnTo>
                <a:lnTo>
                  <a:pt x="17" y="2165"/>
                </a:lnTo>
                <a:lnTo>
                  <a:pt x="51" y="2078"/>
                </a:lnTo>
                <a:lnTo>
                  <a:pt x="98" y="1976"/>
                </a:lnTo>
                <a:lnTo>
                  <a:pt x="101" y="1848"/>
                </a:lnTo>
                <a:lnTo>
                  <a:pt x="141" y="1790"/>
                </a:lnTo>
                <a:lnTo>
                  <a:pt x="195" y="1748"/>
                </a:lnTo>
                <a:lnTo>
                  <a:pt x="254" y="1736"/>
                </a:lnTo>
                <a:lnTo>
                  <a:pt x="297" y="1671"/>
                </a:lnTo>
                <a:lnTo>
                  <a:pt x="335" y="1581"/>
                </a:lnTo>
                <a:lnTo>
                  <a:pt x="345" y="1523"/>
                </a:lnTo>
                <a:lnTo>
                  <a:pt x="425" y="1505"/>
                </a:lnTo>
                <a:lnTo>
                  <a:pt x="485" y="1466"/>
                </a:lnTo>
                <a:lnTo>
                  <a:pt x="571" y="1477"/>
                </a:lnTo>
                <a:lnTo>
                  <a:pt x="599" y="1500"/>
                </a:lnTo>
                <a:lnTo>
                  <a:pt x="672" y="1512"/>
                </a:lnTo>
                <a:lnTo>
                  <a:pt x="740" y="1554"/>
                </a:lnTo>
                <a:lnTo>
                  <a:pt x="798" y="1523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57520" y="1844640"/>
            <a:ext cx="1938240" cy="1239840"/>
          </a:xfrm>
          <a:custGeom>
            <a:avLst/>
            <a:gdLst/>
            <a:ahLst/>
            <a:rect l="l" t="t" r="r" b="b"/>
            <a:pathLst>
              <a:path w="1221" h="781">
                <a:moveTo>
                  <a:pt x="136" y="606"/>
                </a:moveTo>
                <a:cubicBezTo>
                  <a:pt x="137" y="620"/>
                  <a:pt x="163" y="656"/>
                  <a:pt x="162" y="675"/>
                </a:cubicBezTo>
                <a:cubicBezTo>
                  <a:pt x="161" y="694"/>
                  <a:pt x="142" y="717"/>
                  <a:pt x="129" y="721"/>
                </a:cubicBezTo>
                <a:lnTo>
                  <a:pt x="85" y="700"/>
                </a:lnTo>
                <a:lnTo>
                  <a:pt x="28" y="706"/>
                </a:lnTo>
                <a:lnTo>
                  <a:pt x="0" y="664"/>
                </a:lnTo>
                <a:lnTo>
                  <a:pt x="7" y="564"/>
                </a:lnTo>
                <a:lnTo>
                  <a:pt x="39" y="522"/>
                </a:lnTo>
                <a:lnTo>
                  <a:pt x="28" y="483"/>
                </a:lnTo>
                <a:lnTo>
                  <a:pt x="52" y="421"/>
                </a:lnTo>
                <a:lnTo>
                  <a:pt x="103" y="411"/>
                </a:lnTo>
                <a:lnTo>
                  <a:pt x="138" y="399"/>
                </a:lnTo>
                <a:lnTo>
                  <a:pt x="148" y="228"/>
                </a:lnTo>
                <a:lnTo>
                  <a:pt x="150" y="163"/>
                </a:lnTo>
                <a:lnTo>
                  <a:pt x="216" y="126"/>
                </a:lnTo>
                <a:lnTo>
                  <a:pt x="210" y="40"/>
                </a:lnTo>
                <a:lnTo>
                  <a:pt x="276" y="10"/>
                </a:lnTo>
                <a:lnTo>
                  <a:pt x="292" y="0"/>
                </a:lnTo>
                <a:lnTo>
                  <a:pt x="364" y="64"/>
                </a:lnTo>
                <a:lnTo>
                  <a:pt x="366" y="93"/>
                </a:lnTo>
                <a:lnTo>
                  <a:pt x="400" y="118"/>
                </a:lnTo>
                <a:lnTo>
                  <a:pt x="417" y="136"/>
                </a:lnTo>
                <a:lnTo>
                  <a:pt x="454" y="130"/>
                </a:lnTo>
                <a:lnTo>
                  <a:pt x="481" y="156"/>
                </a:lnTo>
                <a:lnTo>
                  <a:pt x="463" y="229"/>
                </a:lnTo>
                <a:lnTo>
                  <a:pt x="496" y="220"/>
                </a:lnTo>
                <a:lnTo>
                  <a:pt x="526" y="166"/>
                </a:lnTo>
                <a:lnTo>
                  <a:pt x="559" y="207"/>
                </a:lnTo>
                <a:lnTo>
                  <a:pt x="616" y="258"/>
                </a:lnTo>
                <a:lnTo>
                  <a:pt x="658" y="253"/>
                </a:lnTo>
                <a:lnTo>
                  <a:pt x="735" y="226"/>
                </a:lnTo>
                <a:lnTo>
                  <a:pt x="727" y="168"/>
                </a:lnTo>
                <a:lnTo>
                  <a:pt x="787" y="142"/>
                </a:lnTo>
                <a:lnTo>
                  <a:pt x="805" y="66"/>
                </a:lnTo>
                <a:lnTo>
                  <a:pt x="882" y="40"/>
                </a:lnTo>
                <a:lnTo>
                  <a:pt x="975" y="76"/>
                </a:lnTo>
                <a:lnTo>
                  <a:pt x="1029" y="91"/>
                </a:lnTo>
                <a:lnTo>
                  <a:pt x="1071" y="91"/>
                </a:lnTo>
                <a:lnTo>
                  <a:pt x="1104" y="73"/>
                </a:lnTo>
                <a:lnTo>
                  <a:pt x="1164" y="88"/>
                </a:lnTo>
                <a:lnTo>
                  <a:pt x="1200" y="72"/>
                </a:lnTo>
                <a:lnTo>
                  <a:pt x="1221" y="108"/>
                </a:lnTo>
                <a:lnTo>
                  <a:pt x="1203" y="132"/>
                </a:lnTo>
                <a:lnTo>
                  <a:pt x="1191" y="159"/>
                </a:lnTo>
                <a:lnTo>
                  <a:pt x="1207" y="178"/>
                </a:lnTo>
                <a:lnTo>
                  <a:pt x="1183" y="192"/>
                </a:lnTo>
                <a:lnTo>
                  <a:pt x="1161" y="219"/>
                </a:lnTo>
                <a:lnTo>
                  <a:pt x="1146" y="216"/>
                </a:lnTo>
                <a:lnTo>
                  <a:pt x="1137" y="195"/>
                </a:lnTo>
                <a:lnTo>
                  <a:pt x="1095" y="196"/>
                </a:lnTo>
                <a:lnTo>
                  <a:pt x="1080" y="223"/>
                </a:lnTo>
                <a:lnTo>
                  <a:pt x="1017" y="250"/>
                </a:lnTo>
                <a:lnTo>
                  <a:pt x="1002" y="285"/>
                </a:lnTo>
                <a:lnTo>
                  <a:pt x="948" y="297"/>
                </a:lnTo>
                <a:lnTo>
                  <a:pt x="948" y="333"/>
                </a:lnTo>
                <a:lnTo>
                  <a:pt x="912" y="369"/>
                </a:lnTo>
                <a:lnTo>
                  <a:pt x="915" y="414"/>
                </a:lnTo>
                <a:lnTo>
                  <a:pt x="877" y="450"/>
                </a:lnTo>
                <a:lnTo>
                  <a:pt x="861" y="444"/>
                </a:lnTo>
                <a:lnTo>
                  <a:pt x="865" y="403"/>
                </a:lnTo>
                <a:lnTo>
                  <a:pt x="829" y="424"/>
                </a:lnTo>
                <a:lnTo>
                  <a:pt x="843" y="457"/>
                </a:lnTo>
                <a:lnTo>
                  <a:pt x="820" y="487"/>
                </a:lnTo>
                <a:lnTo>
                  <a:pt x="819" y="555"/>
                </a:lnTo>
                <a:lnTo>
                  <a:pt x="778" y="568"/>
                </a:lnTo>
                <a:lnTo>
                  <a:pt x="763" y="625"/>
                </a:lnTo>
                <a:lnTo>
                  <a:pt x="715" y="688"/>
                </a:lnTo>
                <a:lnTo>
                  <a:pt x="702" y="760"/>
                </a:lnTo>
                <a:lnTo>
                  <a:pt x="648" y="769"/>
                </a:lnTo>
                <a:lnTo>
                  <a:pt x="579" y="763"/>
                </a:lnTo>
                <a:lnTo>
                  <a:pt x="525" y="739"/>
                </a:lnTo>
                <a:lnTo>
                  <a:pt x="469" y="736"/>
                </a:lnTo>
                <a:lnTo>
                  <a:pt x="423" y="781"/>
                </a:lnTo>
                <a:lnTo>
                  <a:pt x="393" y="697"/>
                </a:lnTo>
                <a:lnTo>
                  <a:pt x="426" y="595"/>
                </a:lnTo>
                <a:lnTo>
                  <a:pt x="417" y="547"/>
                </a:lnTo>
                <a:lnTo>
                  <a:pt x="394" y="534"/>
                </a:lnTo>
                <a:lnTo>
                  <a:pt x="232" y="564"/>
                </a:lnTo>
                <a:lnTo>
                  <a:pt x="140" y="555"/>
                </a:lnTo>
                <a:lnTo>
                  <a:pt x="160" y="675"/>
                </a:lnTo>
                <a:lnTo>
                  <a:pt x="140" y="691"/>
                </a:lnTo>
                <a:lnTo>
                  <a:pt x="162" y="670"/>
                </a:lnTo>
                <a:lnTo>
                  <a:pt x="127" y="595"/>
                </a:lnTo>
                <a:lnTo>
                  <a:pt x="144" y="555"/>
                </a:lnTo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95720" y="128520"/>
            <a:ext cx="3031920" cy="1644840"/>
          </a:xfrm>
          <a:custGeom>
            <a:avLst/>
            <a:gdLst/>
            <a:ahLst/>
            <a:rect l="l" t="t" r="r" b="b"/>
            <a:pathLst>
              <a:path w="1910" h="1036">
                <a:moveTo>
                  <a:pt x="1139" y="964"/>
                </a:moveTo>
                <a:lnTo>
                  <a:pt x="1164" y="955"/>
                </a:lnTo>
                <a:lnTo>
                  <a:pt x="1186" y="953"/>
                </a:lnTo>
                <a:lnTo>
                  <a:pt x="1218" y="935"/>
                </a:lnTo>
                <a:lnTo>
                  <a:pt x="1225" y="901"/>
                </a:lnTo>
                <a:lnTo>
                  <a:pt x="1248" y="905"/>
                </a:lnTo>
                <a:lnTo>
                  <a:pt x="1272" y="868"/>
                </a:lnTo>
                <a:lnTo>
                  <a:pt x="1282" y="830"/>
                </a:lnTo>
                <a:lnTo>
                  <a:pt x="1303" y="806"/>
                </a:lnTo>
                <a:lnTo>
                  <a:pt x="1333" y="791"/>
                </a:lnTo>
                <a:lnTo>
                  <a:pt x="1354" y="754"/>
                </a:lnTo>
                <a:lnTo>
                  <a:pt x="1407" y="716"/>
                </a:lnTo>
                <a:lnTo>
                  <a:pt x="1450" y="712"/>
                </a:lnTo>
                <a:lnTo>
                  <a:pt x="1461" y="685"/>
                </a:lnTo>
                <a:lnTo>
                  <a:pt x="1495" y="673"/>
                </a:lnTo>
                <a:lnTo>
                  <a:pt x="1518" y="644"/>
                </a:lnTo>
                <a:lnTo>
                  <a:pt x="1543" y="653"/>
                </a:lnTo>
                <a:lnTo>
                  <a:pt x="1567" y="644"/>
                </a:lnTo>
                <a:lnTo>
                  <a:pt x="1605" y="613"/>
                </a:lnTo>
                <a:lnTo>
                  <a:pt x="1636" y="637"/>
                </a:lnTo>
                <a:lnTo>
                  <a:pt x="1665" y="631"/>
                </a:lnTo>
                <a:lnTo>
                  <a:pt x="1677" y="656"/>
                </a:lnTo>
                <a:lnTo>
                  <a:pt x="1695" y="670"/>
                </a:lnTo>
                <a:lnTo>
                  <a:pt x="1725" y="635"/>
                </a:lnTo>
                <a:lnTo>
                  <a:pt x="1759" y="647"/>
                </a:lnTo>
                <a:lnTo>
                  <a:pt x="1800" y="662"/>
                </a:lnTo>
                <a:lnTo>
                  <a:pt x="1827" y="665"/>
                </a:lnTo>
                <a:lnTo>
                  <a:pt x="1828" y="694"/>
                </a:lnTo>
                <a:lnTo>
                  <a:pt x="1831" y="718"/>
                </a:lnTo>
                <a:lnTo>
                  <a:pt x="1807" y="749"/>
                </a:lnTo>
                <a:lnTo>
                  <a:pt x="1801" y="790"/>
                </a:lnTo>
                <a:lnTo>
                  <a:pt x="1800" y="821"/>
                </a:lnTo>
                <a:lnTo>
                  <a:pt x="1819" y="828"/>
                </a:lnTo>
                <a:lnTo>
                  <a:pt x="1863" y="827"/>
                </a:lnTo>
                <a:lnTo>
                  <a:pt x="1881" y="806"/>
                </a:lnTo>
                <a:lnTo>
                  <a:pt x="1903" y="764"/>
                </a:lnTo>
                <a:lnTo>
                  <a:pt x="1910" y="737"/>
                </a:lnTo>
                <a:lnTo>
                  <a:pt x="1910" y="692"/>
                </a:lnTo>
                <a:lnTo>
                  <a:pt x="1894" y="632"/>
                </a:lnTo>
                <a:lnTo>
                  <a:pt x="1865" y="601"/>
                </a:lnTo>
                <a:lnTo>
                  <a:pt x="1800" y="545"/>
                </a:lnTo>
                <a:lnTo>
                  <a:pt x="1729" y="510"/>
                </a:lnTo>
                <a:lnTo>
                  <a:pt x="1669" y="434"/>
                </a:lnTo>
                <a:lnTo>
                  <a:pt x="1629" y="398"/>
                </a:lnTo>
                <a:lnTo>
                  <a:pt x="1593" y="329"/>
                </a:lnTo>
                <a:lnTo>
                  <a:pt x="1560" y="262"/>
                </a:lnTo>
                <a:lnTo>
                  <a:pt x="1563" y="202"/>
                </a:lnTo>
                <a:lnTo>
                  <a:pt x="1575" y="151"/>
                </a:lnTo>
                <a:lnTo>
                  <a:pt x="1606" y="59"/>
                </a:lnTo>
                <a:lnTo>
                  <a:pt x="1573" y="24"/>
                </a:lnTo>
                <a:lnTo>
                  <a:pt x="1530" y="6"/>
                </a:lnTo>
                <a:lnTo>
                  <a:pt x="1480" y="0"/>
                </a:lnTo>
                <a:lnTo>
                  <a:pt x="1457" y="11"/>
                </a:lnTo>
                <a:lnTo>
                  <a:pt x="1428" y="42"/>
                </a:lnTo>
                <a:lnTo>
                  <a:pt x="1411" y="102"/>
                </a:lnTo>
                <a:lnTo>
                  <a:pt x="1369" y="112"/>
                </a:lnTo>
                <a:lnTo>
                  <a:pt x="1342" y="140"/>
                </a:lnTo>
                <a:lnTo>
                  <a:pt x="1221" y="176"/>
                </a:lnTo>
                <a:lnTo>
                  <a:pt x="1087" y="166"/>
                </a:lnTo>
                <a:lnTo>
                  <a:pt x="988" y="167"/>
                </a:lnTo>
                <a:lnTo>
                  <a:pt x="912" y="193"/>
                </a:lnTo>
                <a:lnTo>
                  <a:pt x="822" y="238"/>
                </a:lnTo>
                <a:lnTo>
                  <a:pt x="716" y="228"/>
                </a:lnTo>
                <a:lnTo>
                  <a:pt x="616" y="299"/>
                </a:lnTo>
                <a:lnTo>
                  <a:pt x="522" y="317"/>
                </a:lnTo>
                <a:lnTo>
                  <a:pt x="399" y="305"/>
                </a:lnTo>
                <a:lnTo>
                  <a:pt x="315" y="338"/>
                </a:lnTo>
                <a:lnTo>
                  <a:pt x="235" y="355"/>
                </a:lnTo>
                <a:lnTo>
                  <a:pt x="187" y="374"/>
                </a:lnTo>
                <a:lnTo>
                  <a:pt x="94" y="400"/>
                </a:lnTo>
                <a:lnTo>
                  <a:pt x="34" y="493"/>
                </a:lnTo>
                <a:lnTo>
                  <a:pt x="42" y="593"/>
                </a:lnTo>
                <a:lnTo>
                  <a:pt x="5" y="646"/>
                </a:lnTo>
                <a:lnTo>
                  <a:pt x="0" y="698"/>
                </a:lnTo>
                <a:lnTo>
                  <a:pt x="25" y="736"/>
                </a:lnTo>
                <a:lnTo>
                  <a:pt x="64" y="787"/>
                </a:lnTo>
                <a:lnTo>
                  <a:pt x="75" y="820"/>
                </a:lnTo>
                <a:lnTo>
                  <a:pt x="67" y="848"/>
                </a:lnTo>
                <a:lnTo>
                  <a:pt x="81" y="877"/>
                </a:lnTo>
                <a:lnTo>
                  <a:pt x="130" y="887"/>
                </a:lnTo>
                <a:lnTo>
                  <a:pt x="141" y="931"/>
                </a:lnTo>
                <a:lnTo>
                  <a:pt x="96" y="964"/>
                </a:lnTo>
                <a:lnTo>
                  <a:pt x="180" y="1027"/>
                </a:lnTo>
                <a:lnTo>
                  <a:pt x="241" y="1033"/>
                </a:lnTo>
                <a:lnTo>
                  <a:pt x="291" y="1036"/>
                </a:lnTo>
                <a:lnTo>
                  <a:pt x="355" y="1024"/>
                </a:lnTo>
                <a:lnTo>
                  <a:pt x="486" y="1021"/>
                </a:lnTo>
                <a:lnTo>
                  <a:pt x="484" y="983"/>
                </a:lnTo>
                <a:lnTo>
                  <a:pt x="504" y="946"/>
                </a:lnTo>
                <a:lnTo>
                  <a:pt x="558" y="931"/>
                </a:lnTo>
                <a:lnTo>
                  <a:pt x="594" y="877"/>
                </a:lnTo>
                <a:lnTo>
                  <a:pt x="640" y="873"/>
                </a:lnTo>
                <a:lnTo>
                  <a:pt x="690" y="898"/>
                </a:lnTo>
                <a:lnTo>
                  <a:pt x="731" y="873"/>
                </a:lnTo>
                <a:lnTo>
                  <a:pt x="775" y="845"/>
                </a:lnTo>
                <a:lnTo>
                  <a:pt x="819" y="764"/>
                </a:lnTo>
                <a:lnTo>
                  <a:pt x="867" y="737"/>
                </a:lnTo>
                <a:lnTo>
                  <a:pt x="880" y="722"/>
                </a:lnTo>
                <a:lnTo>
                  <a:pt x="958" y="692"/>
                </a:lnTo>
                <a:lnTo>
                  <a:pt x="987" y="620"/>
                </a:lnTo>
                <a:lnTo>
                  <a:pt x="1036" y="572"/>
                </a:lnTo>
                <a:lnTo>
                  <a:pt x="1047" y="511"/>
                </a:lnTo>
                <a:lnTo>
                  <a:pt x="1092" y="470"/>
                </a:lnTo>
                <a:lnTo>
                  <a:pt x="1132" y="476"/>
                </a:lnTo>
                <a:lnTo>
                  <a:pt x="1162" y="445"/>
                </a:lnTo>
                <a:lnTo>
                  <a:pt x="1197" y="433"/>
                </a:lnTo>
                <a:lnTo>
                  <a:pt x="1230" y="465"/>
                </a:lnTo>
                <a:lnTo>
                  <a:pt x="1260" y="499"/>
                </a:lnTo>
                <a:lnTo>
                  <a:pt x="1285" y="533"/>
                </a:lnTo>
                <a:lnTo>
                  <a:pt x="1275" y="556"/>
                </a:lnTo>
                <a:lnTo>
                  <a:pt x="1237" y="616"/>
                </a:lnTo>
                <a:lnTo>
                  <a:pt x="1215" y="629"/>
                </a:lnTo>
                <a:lnTo>
                  <a:pt x="1213" y="670"/>
                </a:lnTo>
                <a:lnTo>
                  <a:pt x="1171" y="715"/>
                </a:lnTo>
                <a:lnTo>
                  <a:pt x="1192" y="760"/>
                </a:lnTo>
                <a:lnTo>
                  <a:pt x="1177" y="794"/>
                </a:lnTo>
                <a:lnTo>
                  <a:pt x="1184" y="828"/>
                </a:lnTo>
                <a:lnTo>
                  <a:pt x="1230" y="811"/>
                </a:lnTo>
                <a:lnTo>
                  <a:pt x="1210" y="844"/>
                </a:lnTo>
                <a:lnTo>
                  <a:pt x="1218" y="874"/>
                </a:lnTo>
                <a:lnTo>
                  <a:pt x="1200" y="899"/>
                </a:lnTo>
                <a:lnTo>
                  <a:pt x="1177" y="892"/>
                </a:lnTo>
                <a:lnTo>
                  <a:pt x="1141" y="952"/>
                </a:lnTo>
                <a:lnTo>
                  <a:pt x="1146" y="967"/>
                </a:lnTo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342900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35280" y="1268280"/>
            <a:ext cx="14472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386064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2920" y="2276640"/>
            <a:ext cx="14472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59280" y="3357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19640" y="321300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3141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36417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2349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92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60720" y="18511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9640" y="31258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3213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020000" y="404640"/>
            <a:ext cx="2084400" cy="1746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01080" y="907920"/>
            <a:ext cx="863640" cy="936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15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国后期秦灭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47640" y="2349360"/>
            <a:ext cx="3124080" cy="2895480"/>
            <a:chOff x="1547640" y="2349360"/>
            <a:chExt cx="3124080" cy="2895480"/>
          </a:xfrm>
        </p:grpSpPr>
        <p:grpSp>
          <p:nvGrpSpPr>
            <p:cNvPr id="79" name=""/>
            <p:cNvGrpSpPr/>
            <p:nvPr/>
          </p:nvGrpSpPr>
          <p:grpSpPr>
            <a:xfrm>
              <a:off x="1547640" y="2349360"/>
              <a:ext cx="3124080" cy="2895480"/>
              <a:chOff x="1547640" y="2349360"/>
              <a:chExt cx="3124080" cy="2895480"/>
            </a:xfrm>
          </p:grpSpPr>
          <p:sp>
            <p:nvSpPr>
              <p:cNvPr id="80" name=""/>
              <p:cNvSpPr/>
              <p:nvPr/>
            </p:nvSpPr>
            <p:spPr>
              <a:xfrm>
                <a:off x="1547640" y="2349360"/>
                <a:ext cx="3124080" cy="2895480"/>
              </a:xfrm>
              <a:prstGeom prst="ellipse">
                <a:avLst/>
              </a:prstGeom>
              <a:solidFill>
                <a:srgbClr val="000080"/>
              </a:solidFill>
              <a:ln w="6048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1677600" y="2763000"/>
                <a:ext cx="2733480" cy="186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0000"/>
                    </a:solidFill>
                    <a:latin typeface="隶书"/>
                  </a:rPr>
                  <a:t>秦</a:t>
                </a:r>
                <a:endParaRPr b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0000"/>
                  </a:solidFill>
                  <a:latin typeface="隶书"/>
                  <a:ea typeface="隶书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506680" y="4559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定都咸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914400"/>
            <a:ext cx="8001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秦能统一六国的原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1916280"/>
            <a:ext cx="8377200" cy="3688920"/>
            <a:chOff x="179280" y="1916280"/>
            <a:chExt cx="8377200" cy="3688920"/>
          </a:xfrm>
        </p:grpSpPr>
        <p:sp>
          <p:nvSpPr>
            <p:cNvPr id="86" name=""/>
            <p:cNvSpPr/>
            <p:nvPr/>
          </p:nvSpPr>
          <p:spPr>
            <a:xfrm>
              <a:off x="250920" y="1916280"/>
              <a:ext cx="83055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长期处于战乱之中的人们渴望生活安定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渴望统一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统一成为大势所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0920" y="3213000"/>
              <a:ext cx="80010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商鞅变法后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秦国经济发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军队战斗力增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成为战国后期最强大的国家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秦统一六国奠定了基础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长平之战后，东方六国再也无力抵抗秦国的进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9280" y="508464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秦王嬴政能够重用人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4876920"/>
            <a:ext cx="120024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514600" y="1066680"/>
            <a:ext cx="4724280" cy="67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3686040" cy="578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878800" y="1484280"/>
            <a:ext cx="2384280" cy="28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秦王扫六合，虎视何雄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7960" y="4437000"/>
            <a:ext cx="2131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的诗歌描述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什么事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6765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课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有关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答如下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362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朝的建立者是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时间？都城建在哪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一个什么样的国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00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秦朝的建立者是嬴政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前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230-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前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221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年，定都咸阳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秦朝是我国第一历史上第一个统一的中央集权的封建国家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572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685800"/>
            <a:ext cx="266688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秦统一六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724280" cy="67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341360"/>
            <a:ext cx="7993080" cy="1099440"/>
          </a:xfrm>
          <a:prstGeom prst="rect">
            <a:avLst/>
          </a:prstGeom>
          <a:solidFill>
            <a:srgbClr val="66ffff"/>
          </a:solidFill>
          <a:ln w="633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赢政用了十年时间完成统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是好事还是坏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2556000" cy="1871640"/>
          </a:xfrm>
          <a:prstGeom prst="irregularSeal1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620640"/>
            <a:ext cx="19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latin typeface="隶书"/>
              </a:rPr>
              <a:t>动脑筋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latin typeface="隶书"/>
              <a:ea typeface="隶书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3500280"/>
            <a:ext cx="889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是好事</a:t>
            </a: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因为：秦的统一结束了春秋战国以来长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割据混战的局面，符合人民的愿望，有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于人民生活的安定和社会生产的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445000"/>
            <a:ext cx="88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0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统一   和平    发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731280" cy="506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71640" y="476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（二）巩固统一 ——传承千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4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solidFill>
            <a:srgbClr val="00ff00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政治上：建立封建专制主义中央集权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1773360"/>
            <a:ext cx="1752480" cy="76428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皇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11280" y="2492280"/>
            <a:ext cx="4190760" cy="609480"/>
            <a:chOff x="611280" y="2492280"/>
            <a:chExt cx="4190760" cy="609480"/>
          </a:xfrm>
        </p:grpSpPr>
        <p:sp>
          <p:nvSpPr>
            <p:cNvPr id="114" name=""/>
            <p:cNvSpPr/>
            <p:nvPr/>
          </p:nvSpPr>
          <p:spPr>
            <a:xfrm>
              <a:off x="611280" y="2797200"/>
              <a:ext cx="4190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6040" y="2492280"/>
              <a:ext cx="0" cy="609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280" y="2797200"/>
              <a:ext cx="0" cy="30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02040" y="2797200"/>
              <a:ext cx="0" cy="3045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3276720"/>
            <a:ext cx="144792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太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92360" y="3284640"/>
            <a:ext cx="152388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丞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276720"/>
            <a:ext cx="2819520" cy="70344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御史大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08360"/>
            <a:ext cx="1295640" cy="70344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528640" y="5373720"/>
            <a:ext cx="27000" cy="43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867280"/>
            <a:ext cx="1219320" cy="76428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隶书"/>
              </a:rPr>
              <a:t>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752480"/>
            <a:ext cx="236196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最高统治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3352680"/>
            <a:ext cx="2057400" cy="520560"/>
          </a:xfrm>
          <a:prstGeom prst="rect">
            <a:avLst/>
          </a:prstGeom>
          <a:solidFill>
            <a:srgbClr val="ccffcc"/>
          </a:solidFill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中央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81480"/>
            <a:ext cx="1828800" cy="520560"/>
          </a:xfrm>
          <a:prstGeom prst="rect">
            <a:avLst/>
          </a:prstGeom>
          <a:solidFill>
            <a:srgbClr val="00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  <a:ea typeface="隶书"/>
              </a:rPr>
              <a:t>地方政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4114800"/>
            <a:ext cx="228600" cy="990720"/>
          </a:xfrm>
          <a:prstGeom prst="up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24382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中央集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君主专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8744040" y="6267600"/>
            <a:ext cx="652320" cy="761760"/>
          </a:xfrm>
          <a:custGeom>
            <a:avLst/>
            <a:gdLst>
              <a:gd name="textAreaLeft" fmla="*/ 0 w 652320"/>
              <a:gd name="textAreaRight" fmla="*/ 652680 w 6523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12538" y="11906"/>
                </a:moveTo>
                <a:arcTo wR="-2060" hR="-2060" stAng="1947375" swAng="-1947375"/>
                <a:lnTo>
                  <a:pt x="0" y="10800"/>
                </a:lnTo>
                <a:arcTo wR="10800" hR="10800" stAng="10800000" swAng="1947375"/>
                <a:lnTo>
                  <a:pt x="-591" y="3555"/>
                </a:lnTo>
                <a:lnTo>
                  <a:pt x="9169" y="1384"/>
                </a:lnTo>
                <a:lnTo>
                  <a:pt x="11340" y="1114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 rot="16206600">
            <a:off x="2590920" y="2384640"/>
            <a:ext cx="216000" cy="3887640"/>
          </a:xfrm>
          <a:custGeom>
            <a:avLst/>
            <a:gdLst>
              <a:gd name="textAreaLeft" fmla="*/ 63360 w 216000"/>
              <a:gd name="textAreaRight" fmla="*/ 216360 w 216000"/>
              <a:gd name="textAreaTop" fmla="*/ 81360 h 3887640"/>
              <a:gd name="textAreaBottom" fmla="*/ 380592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4"/>
                  <a:pt x="0" y="908"/>
                </a:cubicBezTo>
                <a:lnTo>
                  <a:pt x="0" y="20692"/>
                </a:lnTo>
                <a:cubicBezTo>
                  <a:pt x="0" y="21146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2708280"/>
            <a:ext cx="0" cy="5047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39640" y="2781000"/>
            <a:ext cx="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417672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781360"/>
            <a:ext cx="0" cy="4316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149720"/>
            <a:ext cx="14436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4437000"/>
            <a:ext cx="360072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500360" y="4149720"/>
            <a:ext cx="215640" cy="287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484360" y="4436640"/>
            <a:ext cx="0" cy="289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5445000"/>
            <a:ext cx="0" cy="432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4:40:53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2-10-16T09:14:06Z</dcterms:modified>
  <cp:revision>48</cp:revision>
  <dc:subject>www.dearedu.com</dc:subject>
  <dc:title>www.dearedu.com</dc:title>
</cp:coreProperties>
</file>